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32.gif" ContentType="image/gif"/>
  <Override PartName="/ppt/media/image24.gif" ContentType="image/gif"/>
  <Override PartName="/ppt/media/image23.jpeg" ContentType="image/jpeg"/>
  <Override PartName="/ppt/media/image21.gif" ContentType="image/gif"/>
  <Override PartName="/ppt/media/image17.gif" ContentType="image/gif"/>
  <Override PartName="/ppt/media/image50.jpeg" ContentType="image/jpeg"/>
  <Override PartName="/ppt/media/image19.png" ContentType="image/png"/>
  <Override PartName="/ppt/media/image26.gif" ContentType="image/gif"/>
  <Override PartName="/ppt/media/image16.gif" ContentType="image/gif"/>
  <Override PartName="/ppt/media/image51.png" ContentType="image/png"/>
  <Override PartName="/ppt/media/image14.gif" ContentType="image/gif"/>
  <Override PartName="/ppt/media/koko.wav" ContentType="audio/x-wav"/>
  <Override PartName="/ppt/media/image20.gif" ContentType="image/gif"/>
  <Override PartName="/ppt/media/image13.jpeg" ContentType="image/jpeg"/>
  <Override PartName="/ppt/media/image10.png" ContentType="image/png"/>
  <Override PartName="/ppt/media/image1.jpeg" ContentType="image/jpeg"/>
  <Override PartName="/ppt/media/image18.png" ContentType="image/png"/>
  <Override PartName="/ppt/media/image15.gif" ContentType="image/gif"/>
  <Override PartName="/ppt/media/image7.jpeg" ContentType="image/jpeg"/>
  <Override PartName="/ppt/media/image5.gif" ContentType="image/gif"/>
  <Override PartName="/ppt/media/image35.gif" ContentType="image/gif"/>
  <Override PartName="/ppt/media/image30.jpeg" ContentType="image/jpeg"/>
  <Override PartName="/ppt/media/image47.gif" ContentType="image/gif"/>
  <Override PartName="/ppt/media/image29.gif" ContentType="image/gif"/>
  <Override PartName="/ppt/media/image31.gif" ContentType="image/gif"/>
  <Override PartName="/ppt/media/image12.gif" ContentType="image/gif"/>
  <Override PartName="/ppt/media/image49.gif" ContentType="image/gif"/>
  <Override PartName="/ppt/media/image37.gif" ContentType="image/gif"/>
  <Override PartName="/ppt/media/image40.png" ContentType="image/png"/>
  <Override PartName="/ppt/media/image41.gif" ContentType="image/gif"/>
  <Override PartName="/ppt/media/image42.gif" ContentType="image/gif"/>
  <Override PartName="/ppt/media/image43.gif" ContentType="image/gif"/>
  <Override PartName="/ppt/media/image44.gif" ContentType="image/gif"/>
  <Override PartName="/ppt/media/image48.gif" ContentType="image/gif"/>
  <Override PartName="/ppt/media/image11.gif" ContentType="image/gif"/>
  <Override PartName="/ppt/media/image6.gif" ContentType="image/gif"/>
  <Override PartName="/ppt/media/image36.gif" ContentType="image/gif"/>
  <Override PartName="/ppt/media/image38.png" ContentType="image/png"/>
  <Override PartName="/ppt/media/image45.gif" ContentType="image/gif"/>
  <Override PartName="/ppt/media/image8.png" ContentType="image/png"/>
  <Override PartName="/ppt/media/image28.gif" ContentType="image/gif"/>
  <Override PartName="/ppt/media/image34.gif" ContentType="image/gif"/>
  <Override PartName="/ppt/media/image4.gif" ContentType="image/gif"/>
  <Override PartName="/ppt/media/image9.png" ContentType="image/png"/>
  <Override PartName="/ppt/media/image46.gif" ContentType="image/gif"/>
  <Override PartName="/ppt/media/image39.png" ContentType="image/png"/>
  <Override PartName="/ppt/media/image22.jpeg" ContentType="image/jpeg"/>
  <Override PartName="/ppt/media/image27.gif" ContentType="image/gif"/>
  <Override PartName="/ppt/media/image33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ED6-28FA-459A-AA94-16048AC2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9FC-DAC7-42D5-8470-1C762346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99B-B493-41A1-9819-844D9E73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D48-0FF6-45BC-A4CB-D3AD7EC9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EA5-BBC4-49AE-994A-B5030AB8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DB2-5109-4B48-AA1D-45336145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D79-001D-4BED-91EB-80FF992E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515-0E07-4721-B942-518D981B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B43-63DA-4622-BF28-22D6095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51A-8AB0-4397-8482-EF9572A6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350-0627-48AE-B272-7E0ED1F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6C8-FE49-4423-BFB8-BBC56A9A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CFC6-F479-4A7B-BE77-32C0CA6A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jpe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2.gif"/><Relationship Id="rId21" Type="http://schemas.openxmlformats.org/officeDocument/2006/relationships/audio" Target="../media/koko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gif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4.gif"/><Relationship Id="rId16" Type="http://schemas.openxmlformats.org/officeDocument/2006/relationships/image" Target="../media/image25.png"/><Relationship Id="rId17" Type="http://schemas.openxmlformats.org/officeDocument/2006/relationships/image" Target="../media/image26.gif"/><Relationship Id="rId18" Type="http://schemas.openxmlformats.org/officeDocument/2006/relationships/image" Target="../media/image27.gif"/><Relationship Id="rId19" Type="http://schemas.openxmlformats.org/officeDocument/2006/relationships/image" Target="../media/image28.gif"/><Relationship Id="rId20" Type="http://schemas.openxmlformats.org/officeDocument/2006/relationships/image" Target="../media/image29.gif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image" Target="../media/image33.gif"/><Relationship Id="rId11" Type="http://schemas.openxmlformats.org/officeDocument/2006/relationships/image" Target="../media/image34.gif"/><Relationship Id="rId12" Type="http://schemas.openxmlformats.org/officeDocument/2006/relationships/image" Target="../media/image34.gif"/><Relationship Id="rId13" Type="http://schemas.openxmlformats.org/officeDocument/2006/relationships/image" Target="../media/image34.gif"/><Relationship Id="rId14" Type="http://schemas.openxmlformats.org/officeDocument/2006/relationships/image" Target="../media/image35.gif"/><Relationship Id="rId15" Type="http://schemas.openxmlformats.org/officeDocument/2006/relationships/image" Target="../media/image32.gif"/><Relationship Id="rId16" Type="http://schemas.openxmlformats.org/officeDocument/2006/relationships/image" Target="../media/image32.gif"/><Relationship Id="rId17" Type="http://schemas.openxmlformats.org/officeDocument/2006/relationships/image" Target="../media/image36.gif"/><Relationship Id="rId18" Type="http://schemas.openxmlformats.org/officeDocument/2006/relationships/image" Target="../media/image36.gif"/><Relationship Id="rId19" Type="http://schemas.openxmlformats.org/officeDocument/2006/relationships/image" Target="../media/image34.gif"/><Relationship Id="rId20" Type="http://schemas.openxmlformats.org/officeDocument/2006/relationships/image" Target="../media/image37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gif"/><Relationship Id="rId9" Type="http://schemas.openxmlformats.org/officeDocument/2006/relationships/image" Target="../media/image44.gif"/><Relationship Id="rId10" Type="http://schemas.openxmlformats.org/officeDocument/2006/relationships/image" Target="../media/image45.gif"/><Relationship Id="rId11" Type="http://schemas.openxmlformats.org/officeDocument/2006/relationships/image" Target="../media/image46.gif"/><Relationship Id="rId12" Type="http://schemas.openxmlformats.org/officeDocument/2006/relationships/image" Target="../media/image47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9.gif"/><Relationship Id="rId9" Type="http://schemas.openxmlformats.org/officeDocument/2006/relationships/image" Target="../media/image49.gif"/><Relationship Id="rId10" Type="http://schemas.openxmlformats.org/officeDocument/2006/relationships/image" Target="../media/image50.jpe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0" y="6670800"/>
            <a:ext cx="9144000" cy="18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9000"/>
            <a:ext cx="187200" cy="648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56800" y="189000"/>
            <a:ext cx="187200" cy="6480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260280"/>
            <a:ext cx="4176720" cy="70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Frankenstein"/>
              </a:rPr>
              <a:t>  </a:t>
            </a:r>
            <a:r>
              <a:rPr b="1" lang="en-US" sz="4000" spc="-1" strike="noStrike">
                <a:solidFill>
                  <a:srgbClr val="cc0099"/>
                </a:solidFill>
                <a:latin typeface="Frankenstein"/>
              </a:rPr>
              <a:t>25. 11.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524720" y="260280"/>
            <a:ext cx="1371600" cy="723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24000" y="5229360"/>
            <a:ext cx="121896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667640" y="2349360"/>
            <a:ext cx="1303200" cy="316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39640" y="206064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39640" y="314172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885080" y="1197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692360" y="1341360"/>
            <a:ext cx="5761080" cy="446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948360" y="1268280"/>
            <a:ext cx="1008360" cy="453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619280" y="765000"/>
            <a:ext cx="5832360" cy="10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1187280" y="1268280"/>
            <a:ext cx="1008360" cy="453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1692360" y="5300640"/>
            <a:ext cx="583236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19968000">
            <a:off x="1619280" y="2852640"/>
            <a:ext cx="5951520" cy="90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2843280" y="242100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4643280" y="422100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179280" y="260280"/>
            <a:ext cx="1871640" cy="1352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ssolve/>
    <p:sndAc>
      <p:stSnd>
        <p:snd r:embed="rId21" name="kok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969696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25360"/>
            <a:ext cx="9144000" cy="41752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521640 h 4175280"/>
              <a:gd name="textAreaBottom" fmla="*/ 4175640 h 417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2281320"/>
            <a:ext cx="3816360" cy="2653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 Unicode MS"/>
              </a:rPr>
              <a:t>Letí světem lísteč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 Unicode MS"/>
              </a:rPr>
              <a:t>že má Katka sváteč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 Unicode MS"/>
              </a:rPr>
              <a:t>Nejkrásnější svátek měj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 Unicode MS"/>
              </a:rPr>
              <a:t>celý den se usmívej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1428480" cy="1352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88000" y="5057640"/>
            <a:ext cx="135108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1781280" cy="142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164360" y="3429000"/>
            <a:ext cx="1224000" cy="1192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rot="20196600">
            <a:off x="178920" y="620640"/>
            <a:ext cx="1584360" cy="125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 rot="2360400">
            <a:off x="7559280" y="692280"/>
            <a:ext cx="1584360" cy="125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3924360" y="692280"/>
            <a:ext cx="1295280" cy="739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3708360" y="4724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3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3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2346"/>
            </a:gs>
            <a:gs pos="50000">
              <a:srgbClr val="ff66cc"/>
            </a:gs>
            <a:gs pos="100000">
              <a:srgbClr val="582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907920"/>
            <a:ext cx="7561440" cy="5329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1052640"/>
            <a:ext cx="7272360" cy="504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8000" y="1773360"/>
            <a:ext cx="511200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ff00ff"/>
                  </a:outerShdw>
                </a:effectLst>
                <a:latin typeface="Arial Black"/>
              </a:rPr>
              <a:t>Komu píšem přáníčko?</a:t>
            </a:r>
            <a:endParaRPr b="1" lang="en-US" sz="20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38160" dir="0" blurRad="0" rotWithShape="0">
                  <a:srgbClr val="ff00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ff00ff"/>
                  </a:outerShdw>
                </a:effectLst>
                <a:latin typeface="Arial Black"/>
              </a:rPr>
              <a:t>Zamysli se maličko!</a:t>
            </a:r>
            <a:endParaRPr b="1" lang="en-US" sz="20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38160" dir="0" blurRad="0" rotWithShape="0">
                  <a:srgbClr val="ff00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ff00ff"/>
                  </a:outerShdw>
                </a:effectLst>
                <a:latin typeface="Arial Black"/>
              </a:rPr>
              <a:t>Kdo dnes svátek slaví?</a:t>
            </a:r>
            <a:endParaRPr b="1" lang="en-US" sz="20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38160" dir="0" blurRad="0" rotWithShape="0">
                  <a:srgbClr val="ff00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ff00ff"/>
                  </a:outerShdw>
                </a:effectLst>
                <a:latin typeface="Arial Black"/>
              </a:rPr>
              <a:t>Komu přejem štěstí, zdraví?</a:t>
            </a:r>
            <a:endParaRPr b="1" lang="en-US" sz="20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38160" dir="0" blurRad="0" rotWithShape="0">
                  <a:srgbClr val="ff00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ff00ff"/>
                  </a:outerShdw>
                </a:effectLst>
                <a:latin typeface="Arial Black"/>
              </a:rPr>
              <a:t>Už to tušíš Kačenko?</a:t>
            </a:r>
            <a:endParaRPr b="1" lang="en-US" sz="20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38160" dir="0" blurRad="0" rotWithShape="0">
                  <a:srgbClr val="ff00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ff00ff"/>
                  </a:outerShdw>
                </a:effectLst>
                <a:latin typeface="Arial Black"/>
              </a:rPr>
              <a:t>Jsi to Ty, naše sluníčko!!</a:t>
            </a:r>
            <a:endParaRPr b="1" lang="en-US" sz="20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38160" dir="0" blurRad="0" rotWithShape="0">
                  <a:srgbClr val="ff00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3851280" y="4797360"/>
            <a:ext cx="1523880" cy="1486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6"/>
          <a:stretch/>
        </p:blipFill>
        <p:spPr>
          <a:xfrm>
            <a:off x="0" y="3732120"/>
            <a:ext cx="2048040" cy="3125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7"/>
          <a:stretch/>
        </p:blipFill>
        <p:spPr>
          <a:xfrm>
            <a:off x="6732720" y="0"/>
            <a:ext cx="2411280" cy="228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250920" y="189000"/>
            <a:ext cx="20476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3564000" y="0"/>
            <a:ext cx="1904760" cy="124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7236000" y="4508640"/>
            <a:ext cx="1676160" cy="217152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diamond">
            <a:avLst/>
          </a:prstGeom>
          <a:gradFill rotWithShape="0">
            <a:gsLst>
              <a:gs pos="0">
                <a:srgbClr val="660033"/>
              </a:gs>
              <a:gs pos="50000">
                <a:srgbClr val="ffffff">
                  <a:alpha val="98039"/>
                </a:srgbClr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19387800">
            <a:off x="-541080" y="1700280"/>
            <a:ext cx="5726160" cy="75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19387800">
            <a:off x="3995280" y="5084280"/>
            <a:ext cx="5726160" cy="76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 rot="12996000">
            <a:off x="3995640" y="1699920"/>
            <a:ext cx="5726160" cy="75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 rot="12996000">
            <a:off x="-541080" y="5084640"/>
            <a:ext cx="5726160" cy="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755640" y="299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7524720" y="29242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4140360" y="40464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4140360" y="55166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0" y="4365720"/>
            <a:ext cx="2216160" cy="268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395280" y="16128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2"/>
          <a:stretch/>
        </p:blipFill>
        <p:spPr>
          <a:xfrm>
            <a:off x="1459080" y="74772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3"/>
          <a:stretch/>
        </p:blipFill>
        <p:spPr>
          <a:xfrm>
            <a:off x="622764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4"/>
          <a:stretch/>
        </p:blipFill>
        <p:spPr>
          <a:xfrm>
            <a:off x="1403280" y="5419800"/>
            <a:ext cx="1924200" cy="1438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8000" y="2349360"/>
            <a:ext cx="5391360" cy="2531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Kačka dneska svátek slaví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řejeme jí štěstí, zdrav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Štěstí, zdraví, dlouhý vě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ť nám kvete jako květ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5"/>
          <a:stretch/>
        </p:blipFill>
        <p:spPr>
          <a:xfrm>
            <a:off x="4140360" y="1413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6"/>
          <a:stretch/>
        </p:blipFill>
        <p:spPr>
          <a:xfrm>
            <a:off x="4140360" y="45086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314360" cy="17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8"/>
          <a:stretch/>
        </p:blipFill>
        <p:spPr>
          <a:xfrm>
            <a:off x="7829640" y="0"/>
            <a:ext cx="1314360" cy="177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9"/>
          <a:stretch/>
        </p:blipFill>
        <p:spPr>
          <a:xfrm>
            <a:off x="738036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0"/>
          <a:stretch/>
        </p:blipFill>
        <p:spPr>
          <a:xfrm>
            <a:off x="7020000" y="5084640"/>
            <a:ext cx="1914480" cy="14954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wheel spokes="8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6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6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111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111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-324000" y="0"/>
            <a:ext cx="1117800" cy="6524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8317080" y="189000"/>
            <a:ext cx="1117440" cy="6399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451640" y="69228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55640" y="692280"/>
            <a:ext cx="2219400" cy="2228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68360" y="1989000"/>
            <a:ext cx="5616720" cy="20437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Dobré ráno, Kačenk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ať Ti svítí sluníč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Nejkrásnější svátek měj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celý den se usmívej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788000" y="5373720"/>
            <a:ext cx="1095120" cy="1095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3851280" y="404640"/>
            <a:ext cx="1542960" cy="86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1332000" y="126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6227640" y="3860640"/>
            <a:ext cx="2625840" cy="262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539640" y="3645000"/>
            <a:ext cx="3024360" cy="26780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randomBar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46"/>
            </a:gs>
            <a:gs pos="50000">
              <a:srgbClr val="ff9999"/>
            </a:gs>
            <a:gs pos="100000">
              <a:srgbClr val="75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5113080" cy="504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02000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 rot="258000">
            <a:off x="6876720" y="1557360"/>
            <a:ext cx="11430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Přeji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21292800">
            <a:off x="6804000" y="2781360"/>
            <a:ext cx="1666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krásný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093080" y="3860640"/>
            <a:ext cx="121896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 Black"/>
              </a:rPr>
              <a:t>den.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478160" y="530064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ň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 rot="19941000">
            <a:off x="6659640" y="5660640"/>
            <a:ext cx="2238120" cy="523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 rot="19941000">
            <a:off x="6227640" y="549360"/>
            <a:ext cx="2238480" cy="52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260280"/>
            <a:ext cx="144360" cy="62643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564000" y="189000"/>
            <a:ext cx="266364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9:11Z</dcterms:created>
  <dc:creator>Soňa</dc:creator>
  <dc:description/>
  <dc:language>en-US</dc:language>
  <cp:lastModifiedBy>Soňa</cp:lastModifiedBy>
  <dcterms:modified xsi:type="dcterms:W3CDTF">2012-01-16T14:39:58Z</dcterms:modified>
  <cp:revision>1</cp:revision>
  <dc:subject/>
  <dc:title>Snímek 1</dc:title>
</cp:coreProperties>
</file>