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3.gif" ContentType="image/gif"/>
  <Override PartName="/ppt/media/image8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sound001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A0D-5446-462C-AC51-CEED8C90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1FB-0047-498A-82A6-5F2EC002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B2B-124D-4FDF-BB5E-24D026D0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585-645E-43F9-909D-4CA96149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199-3019-4C5E-B908-EA295404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708-8D87-4C6B-98E9-B983A917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71E-5E5E-4ADD-AC4E-2131FD23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EC7-9DC0-41AF-B0CD-3148F636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32A-A233-4F05-9170-EBE040BB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32D-CEF9-411B-A639-A65958FD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3AC-2246-48B8-A466-9D4B55B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761-7D0A-473F-9317-759D0129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6DDE-7814-4A5B-A1A7-31716D669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audio" Target="../media/sound001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7667640" cy="5138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38800">
            <a:off x="5983200" y="129960"/>
            <a:ext cx="274320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Narozeni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1042920" y="260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1692360" y="26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2411280" y="260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3132000" y="260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3851280" y="26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457200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  <p:sndAc>
      <p:stSnd>
        <p:snd r:embed="rId12" name="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9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6265800" cy="388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71640" y="476280"/>
            <a:ext cx="7129440" cy="24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71640" y="6021360"/>
            <a:ext cx="7129440" cy="249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24360" y="0"/>
            <a:ext cx="521964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21480" y="3716280"/>
            <a:ext cx="2522520" cy="2708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576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88000" y="54936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219640" y="2276640"/>
            <a:ext cx="85716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7488000" cy="584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020000" y="4876920"/>
            <a:ext cx="204768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7:10:25Z</dcterms:created>
  <dc:creator>Soňa</dc:creator>
  <dc:description/>
  <dc:language>en-US</dc:language>
  <cp:lastModifiedBy>Soňa</cp:lastModifiedBy>
  <dcterms:modified xsi:type="dcterms:W3CDTF">2012-03-05T17:10:52Z</dcterms:modified>
  <cp:revision>1</cp:revision>
  <dc:subject/>
  <dc:title>Snímek 1</dc:title>
</cp:coreProperties>
</file>