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6.gif" ContentType="image/gif"/>
  <Override PartName="/ppt/media/image7.gif" ContentType="image/gif"/>
  <Override PartName="/ppt/media/image8.png" ContentType="image/png"/>
  <Override PartName="/ppt/media/klavir.wav" ContentType="audio/x-wav"/>
  <Override PartName="/ppt/media/image4.gif" ContentType="image/gif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3.png" ContentType="image/png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5BC-05C7-41C6-87F4-F83848F1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332-9149-4A49-A926-EDBB953E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2A7-F04F-4C63-8869-A08DC22B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8F9-D21A-40E5-A4F0-C698C4A7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DDE-12A8-4853-AB36-3C5D9127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7C1-DE7A-40FB-96CF-4AA8E4AC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AF8-88DD-4EC9-A8C5-EEBF6881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D1E-31A7-4010-A281-E79C88B8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69B-0C7D-46AA-AF16-86585F24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F2F-1997-4EA6-A088-48F833C2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C8B-786E-46D1-829F-11A9239F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0BE-BECF-467A-88A7-0F92FDE8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4B96-BF4E-40C8-9108-57272DAD7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2.gif"/><Relationship Id="rId7" Type="http://schemas.openxmlformats.org/officeDocument/2006/relationships/audio" Target="../media/klavi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459640" cy="5952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9405000">
            <a:off x="0" y="259560"/>
            <a:ext cx="2857680" cy="105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867280" y="476280"/>
            <a:ext cx="2448000" cy="2128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2614800">
            <a:off x="-396720" y="5516640"/>
            <a:ext cx="2354040" cy="871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  <p:sndAc>
      <p:stSnd>
        <p:snd r:embed="rId7" name="klavi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6551640" cy="496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19281000">
            <a:off x="468360" y="907560"/>
            <a:ext cx="266364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0000"/>
                    </a:gs>
                    <a:gs pos="100000">
                      <a:srgbClr val="ff6600"/>
                    </a:gs>
                  </a:gsLst>
                  <a:lin ang="13500000"/>
                </a:gradFill>
                <a:latin typeface="Impact"/>
              </a:rPr>
              <a:t>Hezk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0000"/>
                  </a:gs>
                  <a:gs pos="100000">
                    <a:srgbClr val="ff66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 rot="1749000">
            <a:off x="5435640" y="907920"/>
            <a:ext cx="3203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0000"/>
                    </a:gs>
                    <a:gs pos="100000">
                      <a:srgbClr val="ff6600"/>
                    </a:gs>
                  </a:gsLst>
                  <a:lin ang="13500000"/>
                </a:gradFill>
                <a:latin typeface="Impact"/>
              </a:rPr>
              <a:t>narozeni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0000"/>
                  </a:gs>
                  <a:gs pos="100000">
                    <a:srgbClr val="ff66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2262600">
            <a:off x="6443280" y="4005360"/>
            <a:ext cx="2133720" cy="3009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108000" y="-100080"/>
            <a:ext cx="2381400" cy="2371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80320" y="-100080"/>
            <a:ext cx="2371680" cy="238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-108000" y="4576680"/>
            <a:ext cx="2371680" cy="2381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870600" y="4586400"/>
            <a:ext cx="2381400" cy="2371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55640" y="1268280"/>
            <a:ext cx="7620120" cy="424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2195640" y="189000"/>
            <a:ext cx="461952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050920" y="5157720"/>
            <a:ext cx="461988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846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4173000">
            <a:off x="7062120" y="30600"/>
            <a:ext cx="1908000" cy="1846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7740720" cy="585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27240" y="5950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ň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19251600">
            <a:off x="900000" y="1125000"/>
            <a:ext cx="40276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Impact"/>
              </a:rPr>
              <a:t>Přeji krásný 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 rot="2044200">
            <a:off x="6876720" y="259920"/>
            <a:ext cx="201132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7:12:07Z</dcterms:created>
  <dc:creator>Soňa</dc:creator>
  <dc:description/>
  <dc:language>en-US</dc:language>
  <cp:lastModifiedBy>Soňa</cp:lastModifiedBy>
  <dcterms:modified xsi:type="dcterms:W3CDTF">2012-03-05T17:32:30Z</dcterms:modified>
  <cp:revision>2</cp:revision>
  <dc:subject/>
  <dc:title>Snímek 1</dc:title>
</cp:coreProperties>
</file>