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7.gif" ContentType="image/gif"/>
  <Override PartName="/ppt/media/image26.gif" ContentType="image/gif"/>
  <Override PartName="/ppt/media/image3.gif" ContentType="image/gif"/>
  <Override PartName="/ppt/media/image8.jpeg" ContentType="image/jpeg"/>
  <Override PartName="/ppt/media/image5.png" ContentType="image/png"/>
  <Override PartName="/ppt/media/klav2.wav" ContentType="audio/x-wav"/>
  <Override PartName="/ppt/media/image7.gif" ContentType="image/gif"/>
  <Override PartName="/ppt/media/image6.jpeg" ContentType="image/jpeg"/>
  <Override PartName="/ppt/media/image4.png" ContentType="image/png"/>
  <Override PartName="/ppt/media/image12.jpeg" ContentType="image/jpeg"/>
  <Override PartName="/ppt/media/image10.gif" ContentType="image/gif"/>
  <Override PartName="/ppt/media/image9.jpeg" ContentType="image/jpeg"/>
  <Override PartName="/ppt/media/image11.png" ContentType="image/png"/>
  <Override PartName="/ppt/media/image29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24.png" ContentType="image/png"/>
  <Override PartName="/ppt/media/image13.jpeg" ContentType="image/jpeg"/>
  <Override PartName="/ppt/media/image18.gif" ContentType="image/gif"/>
  <Override PartName="/ppt/media/image23.png" ContentType="image/png"/>
  <Override PartName="/ppt/media/image30.gif" ContentType="image/gif"/>
  <Override PartName="/ppt/media/image14.gif" ContentType="image/gif"/>
  <Override PartName="/ppt/media/image16.gif" ContentType="image/gif"/>
  <Override PartName="/ppt/media/image17.jpeg" ContentType="image/jpeg"/>
  <Override PartName="/ppt/media/image2.jpeg" ContentType="image/jpeg"/>
  <Override PartName="/ppt/media/image20.png" ContentType="image/png"/>
  <Override PartName="/ppt/media/image15.png" ContentType="image/png"/>
  <Override PartName="/ppt/media/image22.gif" ContentType="image/gif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E10E-69CA-4FEE-A48F-1FFBC663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EB0-9986-4CFB-9040-7C0E3370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97D-C24D-4F2F-89D5-21F29685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B464-0729-460F-B725-B444B985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3B82-A3D1-4303-AD75-3189BD91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592-93AF-4320-9BC3-CDFE61BF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2E1-9F23-4D7A-BE22-069F8A3F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E28F-431C-4946-AC47-67E9270F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0BA-D0A9-4F36-9CF4-3A74F833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805E-2E2B-458F-A0B0-A26A20CA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03E-DC7A-42CC-9278-529FE516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519-FECE-4A4B-96C2-919A90AF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CB95-0190-4D8A-A9F7-BB62D171A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audio" Target="../media/klav2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6.gif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2.gif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6.gif"/><Relationship Id="rId14" Type="http://schemas.openxmlformats.org/officeDocument/2006/relationships/image" Target="../media/image26.gi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09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 rot="1141200">
            <a:off x="7092720" y="2778120"/>
            <a:ext cx="1145880" cy="4079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 rot="16200000">
            <a:off x="4055760" y="-1384560"/>
            <a:ext cx="1079640" cy="4368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 rot="2644800">
            <a:off x="4898520" y="-636120"/>
            <a:ext cx="2573640" cy="7362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2411280" y="1773360"/>
            <a:ext cx="5327640" cy="4103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Bar dir="vert"/>
    <p:sndAc>
      <p:stSnd>
        <p:snd r:embed="rId7" name="klav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920" y="2595600"/>
            <a:ext cx="2411280" cy="4073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24360" y="549360"/>
            <a:ext cx="4176720" cy="554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1125360"/>
            <a:ext cx="3024000" cy="4392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292720" y="2781360"/>
            <a:ext cx="2400480" cy="3008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 rot="11111400">
            <a:off x="3563640" y="764640"/>
            <a:ext cx="4248000" cy="4248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627280" y="4437000"/>
            <a:ext cx="31384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Comic Sans MS"/>
              </a:rPr>
              <a:t>Skleničku sektu pozvedám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připíjím na Tvé zdraví...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52" name=""/>
          <p:cNvSpPr txBox="1"/>
          <p:nvPr/>
        </p:nvSpPr>
        <p:spPr>
          <a:xfrm rot="21201000">
            <a:off x="5580000" y="5444640"/>
            <a:ext cx="277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Krásné narozeniny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  <p:transition spd="slow" advTm="10000">
    <p:randomBar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 rot="997200">
            <a:off x="3839760" y="259920"/>
            <a:ext cx="4680000" cy="496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 rot="1263600">
            <a:off x="179280" y="691920"/>
            <a:ext cx="3875040" cy="2374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684360" y="3213000"/>
            <a:ext cx="5305320" cy="289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99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kaDora"/>
              </a:rPr>
              <a:t>Ať každý den se krásný zdá,</a:t>
            </a:r>
            <a:endParaRPr b="0" lang="en-US" sz="1800" spc="1" strike="noStrike">
              <a:ln w="19080">
                <a:solidFill>
                  <a:srgbClr val="cc99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99ff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kaDora"/>
              </a:rPr>
              <a:t>pro Tebe a přání Tvá.</a:t>
            </a:r>
            <a:endParaRPr b="0" lang="en-US" sz="1800" spc="1" strike="noStrike">
              <a:ln w="19080">
                <a:solidFill>
                  <a:srgbClr val="cc99ff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99ff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kaDora"/>
              </a:rPr>
              <a:t>Ať se splní Tvoje sny</a:t>
            </a:r>
            <a:endParaRPr b="0" lang="en-US" sz="1800" spc="1" strike="noStrike">
              <a:ln w="19080">
                <a:solidFill>
                  <a:srgbClr val="cc99ff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99ff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kaDora"/>
              </a:rPr>
              <a:t>a nastanou jen krásné dny... </a:t>
            </a:r>
            <a:endParaRPr b="0" lang="en-US" sz="1800" spc="1" strike="noStrike">
              <a:ln w="19080">
                <a:solidFill>
                  <a:srgbClr val="cc99ff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kaDora"/>
              <a:ea typeface="akaDor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6443640" y="3789360"/>
            <a:ext cx="2057400" cy="2830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1080" y="0"/>
            <a:ext cx="179280" cy="68580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amond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3348000" y="4724280"/>
            <a:ext cx="5796000" cy="2133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411280" y="1125360"/>
            <a:ext cx="501840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Gabriola"/>
              </a:rPr>
              <a:t>Měj se dnes jen a jen krásně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Gabriola"/>
              <a:ea typeface="Gabriol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Gabriola"/>
              </a:rPr>
              <a:t>Život svůj prožívej šťastně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Gabriola"/>
              <a:ea typeface="Gabriol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Gabriola"/>
              </a:rPr>
              <a:t>Přeji Ti hodně zdraví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Gabriola"/>
              <a:ea typeface="Gabriol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Gabriola"/>
              </a:rPr>
              <a:t>ať jsi v pohodě a život Tě baví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Gabriola"/>
              <a:ea typeface="Gabriol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1">
            <a:lum contrast="24000"/>
          </a:blip>
          <a:stretch/>
        </p:blipFill>
        <p:spPr>
          <a:xfrm>
            <a:off x="7740720" y="404640"/>
            <a:ext cx="857160" cy="3745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trips dir="l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55e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35280" y="1484280"/>
            <a:ext cx="5545080" cy="3960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195640" y="2205000"/>
            <a:ext cx="5068800" cy="259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Monotype Corsiva"/>
              </a:rPr>
              <a:t>Tvé narozeniny jsou tady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tak ať mají jen samé klady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Monotype Corsiva"/>
              </a:rPr>
              <a:t>Ať splní Tvoje tajná přání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Monotype Corsiva"/>
              </a:rPr>
              <a:t>a radosti máš na rozdávání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324000" y="4365720"/>
            <a:ext cx="3811320" cy="218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1547640" y="189000"/>
            <a:ext cx="5761080" cy="204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 rot="21024600">
            <a:off x="250560" y="188640"/>
            <a:ext cx="1170000" cy="1224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 rot="21024600">
            <a:off x="7524360" y="5229000"/>
            <a:ext cx="1170000" cy="1224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 rot="5400000">
            <a:off x="-3322800" y="3286080"/>
            <a:ext cx="6858000" cy="285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4"/>
          <a:stretch/>
        </p:blipFill>
        <p:spPr>
          <a:xfrm rot="5400000">
            <a:off x="5571720" y="3286080"/>
            <a:ext cx="6858000" cy="285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 rot="417600">
            <a:off x="5219640" y="1125360"/>
            <a:ext cx="3429000" cy="4762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 rot="19903200">
            <a:off x="394920" y="1557000"/>
            <a:ext cx="5381640" cy="223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89800" y="17733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ň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 rot="20518800">
            <a:off x="1547280" y="4221000"/>
            <a:ext cx="3238560" cy="1866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179280" cy="6931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964720" y="0"/>
            <a:ext cx="179280" cy="6931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6:36:40Z</dcterms:created>
  <dc:creator>Soňa</dc:creator>
  <dc:description/>
  <dc:language>en-US</dc:language>
  <cp:lastModifiedBy>Soňa</cp:lastModifiedBy>
  <dcterms:modified xsi:type="dcterms:W3CDTF">2012-02-06T16:37:46Z</dcterms:modified>
  <cp:revision>1</cp:revision>
  <dc:subject/>
  <dc:title>Snímek 1</dc:title>
</cp:coreProperties>
</file>