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0.gif" ContentType="image/gif"/>
  <Override PartName="/ppt/media/image5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only1.wav" ContentType="audio/x-wav"/>
  <Override PartName="/ppt/media/image23.gif" ContentType="image/gif"/>
  <Override PartName="/ppt/media/image21.gif" ContentType="image/gif"/>
  <Override PartName="/ppt/media/image19.gif" ContentType="image/gif"/>
  <Override PartName="/ppt/media/image17.png" ContentType="image/png"/>
  <Override PartName="/ppt/media/image16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.jpeg" ContentType="image/jpeg"/>
  <Override PartName="/ppt/media/image4.gif" ContentType="image/gi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1E4-03F7-44CD-86E2-773F72CC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E6F-2D51-4EB8-9AF8-56E9510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AD7-3F77-4D4F-AC7A-2C2FF6DC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439-1F3F-4173-9F6A-5E05E2A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05A-E098-454D-818D-5CB0082E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8B1-8541-471D-BE0A-55BC85A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E1B-85CD-404F-92B4-40B9154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568-E330-40B8-9CF2-FA1D98E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D88-8E7C-426C-A860-272F152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4C6-15A5-4A03-9C1F-6285529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516-ED83-4E80-BA48-FFC424F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555-B909-42CA-B115-C81B2A7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F6A-777B-4D63-9AC6-95974DA90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only1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8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7.png"/><Relationship Id="rId16" Type="http://schemas.openxmlformats.org/officeDocument/2006/relationships/image" Target="../media/image18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image" Target="../media/image19.gif"/><Relationship Id="rId23" Type="http://schemas.openxmlformats.org/officeDocument/2006/relationships/image" Target="../media/image19.gif"/><Relationship Id="rId24" Type="http://schemas.openxmlformats.org/officeDocument/2006/relationships/image" Target="../media/image19.gif"/><Relationship Id="rId25" Type="http://schemas.openxmlformats.org/officeDocument/2006/relationships/image" Target="../media/image20.gif"/><Relationship Id="rId26" Type="http://schemas.openxmlformats.org/officeDocument/2006/relationships/image" Target="../media/image21.gi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3344400" y="3344040"/>
            <a:ext cx="6877080" cy="189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610240" y="3344040"/>
            <a:ext cx="687708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907920"/>
            <a:ext cx="657252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Snad tohle moje přáníčko 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potěší Tvé srdíčko.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Líbám Tě na ústa, na čelo,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by vše, po čem toužíš, se Ti splnilo.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9280" y="3357720"/>
            <a:ext cx="475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Přeji Ti štěstí, lásky, 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přátel ať máš dost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a přes každou překážku 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aDora"/>
              </a:rPr>
              <a:t>najdeš ten správný most...</a:t>
            </a:r>
            <a:endParaRPr b="0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5000">
            <a:off x="394920" y="404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95280" y="4653000"/>
            <a:ext cx="2381400" cy="1628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horz"/>
    <p:sndAc>
      <p:stSnd>
        <p:snd r:embed="rId8" name="only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20752800">
            <a:off x="1979280" y="2349360"/>
            <a:ext cx="5734080" cy="398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660066">
                      <a:alpha val="80000"/>
                    </a:srgbClr>
                  </a:outerShdw>
                </a:effectLst>
                <a:latin typeface="Arial Black"/>
              </a:rPr>
              <a:t>Kytku růží chci Ti dát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6600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660066">
                      <a:alpha val="80000"/>
                    </a:srgbClr>
                  </a:outerShdw>
                </a:effectLst>
                <a:latin typeface="Arial Black"/>
              </a:rPr>
              <a:t>štěstí, zdraví blahopřát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6600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660066">
                      <a:alpha val="80000"/>
                    </a:srgbClr>
                  </a:outerShdw>
                </a:effectLst>
                <a:latin typeface="Arial Black"/>
              </a:rPr>
              <a:t>Lásku od Těch co Tě znají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6600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660066">
                      <a:alpha val="80000"/>
                    </a:srgbClr>
                  </a:outerShdw>
                </a:effectLst>
                <a:latin typeface="Arial Black"/>
              </a:rPr>
              <a:t>přáníčko Ti posílají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6600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20135400">
            <a:off x="1186920" y="836280"/>
            <a:ext cx="1543320" cy="86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3668760"/>
            <a:ext cx="333360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19977000">
            <a:off x="1547640" y="1628280"/>
            <a:ext cx="6193080" cy="30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Když někdo narozeniny slaví,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přejí mu všichni štěstí, zdraví.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Ať za mě kytička Ti poví,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co nelze říci slovy.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Pozvedám vzhůru číš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a co Ti přeji? To snad víš...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395280" y="4005360"/>
            <a:ext cx="73332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971640" y="4581360"/>
            <a:ext cx="73332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8728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20718600">
            <a:off x="2123640" y="1628640"/>
            <a:ext cx="5264280" cy="40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00000"/>
                  </a:outerShdw>
                </a:effectLst>
                <a:latin typeface="Monotype Corsiva"/>
              </a:rPr>
              <a:t>Všechno nej, ať je Ti hej,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00000"/>
                  </a:outerShdw>
                </a:effectLst>
                <a:latin typeface="Monotype Corsiva"/>
              </a:rPr>
              <a:t>ať se můžeš pořád smát,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00000"/>
                  </a:outerShdw>
                </a:effectLst>
                <a:latin typeface="Monotype Corsiva"/>
              </a:rPr>
              <a:t>radost kolem rozdávat.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00000"/>
                  </a:outerShdw>
                </a:effectLst>
                <a:latin typeface="Monotype Corsiva"/>
              </a:rPr>
              <a:t>Nikdy smutku nepodléhej,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00000"/>
                  </a:outerShdw>
                </a:effectLst>
                <a:latin typeface="Monotype Corsiva"/>
              </a:rPr>
              <a:t>v životě jen štěstí hledej.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0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863800">
            <a:off x="1476000" y="475920"/>
            <a:ext cx="453708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863800">
            <a:off x="4784760" y="5349600"/>
            <a:ext cx="4176720" cy="123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451640" y="404640"/>
            <a:ext cx="1362240" cy="2009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00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4292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58920" y="10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732720" y="5084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94836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7164360" y="551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7380360" y="573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7596360" y="594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812000" y="616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28000" y="638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1692360" y="148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1908000" y="170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3635280" y="4724280"/>
            <a:ext cx="2519280" cy="196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 rot="17872200">
            <a:off x="3660480" y="-123840"/>
            <a:ext cx="1352880" cy="2409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20383800">
            <a:off x="2123640" y="1412640"/>
            <a:ext cx="5248440" cy="37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Ať je Tvůj život jako násobilka,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která násobí radost, dělí  starost,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umocňuje lásku, odmocňuje nenávist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18900000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a všechno dobré dohromady spočítá...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18900000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5"/>
          <a:stretch/>
        </p:blipFill>
        <p:spPr>
          <a:xfrm>
            <a:off x="0" y="2852640"/>
            <a:ext cx="2857680" cy="371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6"/>
          <a:stretch/>
        </p:blipFill>
        <p:spPr>
          <a:xfrm>
            <a:off x="6877080" y="117360"/>
            <a:ext cx="21430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19536000">
            <a:off x="0" y="1628280"/>
            <a:ext cx="6267600" cy="20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Gabriola"/>
              </a:rPr>
              <a:t>Přeji krásný den...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Gabriola"/>
              <a:ea typeface="Gabriola"/>
            </a:endParaRPr>
          </a:p>
        </p:txBody>
      </p:sp>
      <p:sp>
        <p:nvSpPr>
          <p:cNvPr id="85" name=""/>
          <p:cNvSpPr/>
          <p:nvPr/>
        </p:nvSpPr>
        <p:spPr>
          <a:xfrm>
            <a:off x="8388000" y="638172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ň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18:37Z</dcterms:created>
  <dc:creator>Soňa</dc:creator>
  <dc:description/>
  <dc:language>en-US</dc:language>
  <cp:lastModifiedBy>Soňa</cp:lastModifiedBy>
  <dcterms:modified xsi:type="dcterms:W3CDTF">2012-03-06T12:27:35Z</dcterms:modified>
  <cp:revision>1</cp:revision>
  <dc:subject/>
  <dc:title>Snímek 1</dc:title>
</cp:coreProperties>
</file>