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.jpeg" ContentType="image/jpeg"/>
  <Override PartName="/ppt/media/sound001%20(2).wav" ContentType="audio/x-wav"/>
  <Override PartName="/ppt/media/image4.gif" ContentType="image/gif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5.gif" ContentType="image/gif"/>
  <Override PartName="/ppt/media/image9.gif" ContentType="image/gif"/>
  <Override PartName="/ppt/media/image2.gif" ContentType="image/gif"/>
  <Override PartName="/ppt/media/image10.jpeg" ContentType="image/jpeg"/>
  <Override PartName="/ppt/media/image8.gif" ContentType="image/gif"/>
  <Override PartName="/ppt/media/image29.png" ContentType="image/png"/>
  <Override PartName="/ppt/media/image11.png" ContentType="image/png"/>
  <Override PartName="/ppt/media/image13.gif" ContentType="image/gif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21.png" ContentType="image/png"/>
  <Override PartName="/ppt/media/image1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18.gif" ContentType="image/gif"/>
  <Override PartName="/ppt/media/image20.gif" ContentType="image/gif"/>
  <Override PartName="/ppt/media/image19.gif" ContentType="image/gif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BC2-805C-447B-9EE8-7A775DF7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526-FDA2-43DE-956C-0228BAF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32B-0E1E-4F06-B6D9-70E6113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BCA-8925-48CA-B7E0-B2AB006A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226-5397-4F65-9AD4-369369E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D68-3475-4526-A1B2-B97D611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65-D953-4CEF-A6E1-33F5B60D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A0A-48EA-48F7-98AF-E4F86AF8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6B1-E481-4C4C-87F9-FF550E6E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77A-6053-4B15-9BDC-930942E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9CB-A61E-40D0-A8E3-8B100A4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94F-B39D-4BF5-978C-91CB1CA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1D3-0C52-4A45-9956-7990ECCC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ound001%20(2)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20.gif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image" Target="../media/image25.jpeg"/><Relationship Id="rId13" Type="http://schemas.openxmlformats.org/officeDocument/2006/relationships/image" Target="../media/image25.jpe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32360" y="115920"/>
            <a:ext cx="3743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5d49"/>
                    </a:gs>
                    <a:gs pos="50000">
                      <a:srgbClr val="fecba0"/>
                    </a:gs>
                    <a:gs pos="100000">
                      <a:srgbClr val="755d49"/>
                    </a:gs>
                  </a:gsLst>
                  <a:lin ang="5400000"/>
                </a:gradFill>
                <a:latin typeface="comic"/>
              </a:rPr>
              <a:t>narozeni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5d49"/>
                  </a:gs>
                  <a:gs pos="50000">
                    <a:srgbClr val="fecba0"/>
                  </a:gs>
                  <a:gs pos="100000">
                    <a:srgbClr val="755d49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32000" y="2060640"/>
            <a:ext cx="50184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Ahoj, jsme tu akorát?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Přišli jsme Ti blahopřát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Přejeme Ti, co se přává,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vše krásné co život dává,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štěstí, zdraví, lásky dost,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kaDora"/>
              </a:rPr>
              <a:t>ať celý den máš radost..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kaDora"/>
              <a:ea typeface="akaDo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66688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horz"/>
    <p:sndAc>
      <p:stSnd>
        <p:snd r:embed="rId3" name="sound001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47640" y="1843200"/>
            <a:ext cx="59756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Tvé narozeniny jsou tady,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tak ať mají jen samé klady.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Ať splní se Tvoje tajná přání,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ať radosti máš na rozdávání.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0"/>
          <a:stretch/>
        </p:blipFill>
        <p:spPr>
          <a:xfrm rot="5400000">
            <a:off x="3318120" y="-1122840"/>
            <a:ext cx="1828800" cy="40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1"/>
          <a:stretch/>
        </p:blipFill>
        <p:spPr>
          <a:xfrm rot="16200000">
            <a:off x="4039200" y="4106160"/>
            <a:ext cx="1828800" cy="4074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1440" cy="68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356000" cy="472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71640" y="458136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51fbb"/>
                </a:solidFill>
                <a:latin typeface="comic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726920" cy="54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556000" y="1916280"/>
            <a:ext cx="5472000" cy="32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Když někdo narozeniny slaví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přejí mu všichni štěstí, zdraví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Ať za mě kytička Ti poví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co nelze říci slovy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Pozvedám vzhůru vína číš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a co Ti přeji?  To snad víš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2916360" y="476280"/>
            <a:ext cx="4619520" cy="126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8028000" y="4437000"/>
            <a:ext cx="73332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7"/>
          <a:stretch/>
        </p:blipFill>
        <p:spPr>
          <a:xfrm>
            <a:off x="7223040" y="5029200"/>
            <a:ext cx="73368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>
            <a:off x="971640" y="12682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95640" y="1484280"/>
            <a:ext cx="489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Dnes když bouchne šampáňo,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roky mají nahnáno.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Kdo rád žije, veselí se, slaví,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Corsiva"/>
              </a:rPr>
              <a:t>nikdy nemá šanci býti starý.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Monotype Corsiva"/>
              </a:rPr>
              <a:t>I když jsi zas o rok starší, 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66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Monotype Corsiva"/>
              </a:rPr>
              <a:t>neber to moc vážně.</a:t>
            </a:r>
            <a:endParaRPr b="1" lang="en-US" sz="1800" spc="1" strike="noStrike">
              <a:ln w="3240">
                <a:solidFill>
                  <a:srgbClr val="3366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086600" y="4508640"/>
            <a:ext cx="2057400" cy="254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0" y="4476600"/>
            <a:ext cx="1619280" cy="238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 rot="19822200">
            <a:off x="-181080" y="620280"/>
            <a:ext cx="4038840" cy="155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638440" cy="292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297320"/>
            <a:ext cx="2987640" cy="256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20110200">
            <a:off x="-396360" y="980640"/>
            <a:ext cx="6676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6480">
                  <a:solidFill>
                    <a:srgbClr val="351fbb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nad tohle naše přáníčko</a:t>
            </a:r>
            <a:endParaRPr b="1" lang="en-US" sz="3200" spc="1" strike="noStrike">
              <a:ln w="6480">
                <a:solidFill>
                  <a:srgbClr val="351fbb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6480">
                  <a:solidFill>
                    <a:srgbClr val="351fbb"/>
                  </a:solidFill>
                  <a:miter/>
                </a:ln>
                <a:blipFill rotWithShape="0">
                  <a:blip r:embed="rId6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otěší Tvé srdíčko.</a:t>
            </a:r>
            <a:endParaRPr b="1" lang="en-US" sz="3200" spc="1" strike="noStrike">
              <a:ln w="6480">
                <a:solidFill>
                  <a:srgbClr val="351fbb"/>
                </a:solidFill>
                <a:miter/>
              </a:ln>
              <a:blipFill rotWithShape="0">
                <a:blip r:embed="rId7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6480">
                  <a:solidFill>
                    <a:srgbClr val="351fbb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íbáme Tě na nos, ústa, na čelo,</a:t>
            </a:r>
            <a:endParaRPr b="1" lang="en-US" sz="3200" spc="1" strike="noStrike">
              <a:ln w="6480">
                <a:solidFill>
                  <a:srgbClr val="351fbb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6480">
                  <a:solidFill>
                    <a:srgbClr val="351fbb"/>
                  </a:solidFill>
                  <a:miter/>
                </a:ln>
                <a:blipFill rotWithShape="0">
                  <a:blip r:embed="rId10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by vše, po čem toužíš se Ti splnilo...</a:t>
            </a:r>
            <a:endParaRPr b="1" lang="en-US" sz="3200" spc="1" strike="noStrike">
              <a:ln w="6480">
                <a:solidFill>
                  <a:srgbClr val="351fbb"/>
                </a:solidFill>
                <a:miter/>
              </a:ln>
              <a:blipFill rotWithShape="0">
                <a:blip r:embed="rId11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 rot="20120400">
            <a:off x="3230640" y="4220640"/>
            <a:ext cx="5553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51fbb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Comic Sans MS"/>
              </a:rPr>
              <a:t>Všechno nejlepší k narozeninám...</a:t>
            </a:r>
            <a:endParaRPr b="1" lang="en-US" sz="1800" spc="1" strike="noStrike">
              <a:ln w="9360">
                <a:solidFill>
                  <a:srgbClr val="351fbb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 rot="19151400">
            <a:off x="3924000" y="2997360"/>
            <a:ext cx="1351080" cy="93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7020000" y="5157720"/>
            <a:ext cx="1366920" cy="125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95840" y="647388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197000"/>
            <a:ext cx="702000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řeji krásný a pohodový den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7000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39:50Z</dcterms:created>
  <dc:creator>Soňa</dc:creator>
  <dc:description/>
  <dc:language>en-US</dc:language>
  <cp:lastModifiedBy>Soňa</cp:lastModifiedBy>
  <dcterms:modified xsi:type="dcterms:W3CDTF">2012-03-12T16:44:48Z</dcterms:modified>
  <cp:revision>1</cp:revision>
  <dc:subject/>
  <dc:title>Snímek 1</dc:title>
</cp:coreProperties>
</file>