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papar.wav" ContentType="audio/x-wav"/>
  <Override PartName="/ppt/media/image19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5.jpeg" ContentType="image/jpeg"/>
  <Override PartName="/ppt/media/image27.png" ContentType="image/png"/>
  <Override PartName="/ppt/media/image24.gif" ContentType="image/gif"/>
  <Override PartName="/ppt/media/image16.jpeg" ContentType="image/jpeg"/>
  <Override PartName="/ppt/media/image23.gif" ContentType="image/gif"/>
  <Override PartName="/ppt/media/image26.png" ContentType="image/png"/>
  <Override PartName="/ppt/media/image21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18.gif" ContentType="image/gif"/>
  <Override PartName="/ppt/media/image13.jpeg" ContentType="image/jpeg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3D8-F68E-4E80-91B2-F52EA1F9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446-201A-435D-AEB6-BCCE5D8B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3AF-77D3-4660-AA79-CE0B0B02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C49-8E36-4820-BF09-54B502B6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212-A3F7-4776-9F6A-0975F739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D08-2046-44DC-9DFA-CE3E8A7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8B8-FBD6-4C93-85CD-0F613A3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952-AE66-49DC-9E89-D7E82AED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96B-4695-48A1-A3A3-21203F2A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5B3-F1EA-4EC9-A9D6-149DAB8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02C-8809-4A54-A14A-0198BFD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EA1-094A-4729-8690-5F41DF9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FFE-EBCF-4EBC-B4BF-3E723BCC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papa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948360" y="4724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821800">
            <a:off x="1331640" y="1700280"/>
            <a:ext cx="5543640" cy="34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Na obloze slunce září,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svátek Tvůj je v kalendáři.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Posíláme blahopřání,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ať splní se Ti tajná přání...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834920" cy="177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64360" y="333360"/>
            <a:ext cx="1631880" cy="2016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  <p:sndAc>
      <p:stSnd>
        <p:snd r:embed="rId5" name="pap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519280" cy="268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672000" cy="327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797360"/>
            <a:ext cx="140004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0927400">
            <a:off x="2987640" y="1699920"/>
            <a:ext cx="5399280" cy="38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kaDora"/>
              </a:rPr>
              <a:t>Já Ti přeji k Tvému svátku,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kaDora"/>
              </a:rPr>
              <a:t>plnou náruč krásných dárků.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kaDora"/>
              </a:rPr>
              <a:t>Štěstí ať Tě provází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kaDora"/>
              </a:rPr>
              <a:t>a to zdraví neschází.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kaDora"/>
              </a:rPr>
              <a:t>Všechno nej, nej...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kaDora"/>
              <a:ea typeface="akaDora"/>
            </a:endParaRPr>
          </a:p>
        </p:txBody>
      </p:sp>
    </p:spTree>
  </p:cSld>
  <p:transition spd="slow" advTm="10000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77080" y="41497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1722240" cy="217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0382000">
            <a:off x="2268360" y="1628640"/>
            <a:ext cx="511200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20503642" blurRad="0" rotWithShape="0">
                    <a:srgbClr val="ffffff"/>
                  </a:outerShdw>
                </a:effectLst>
                <a:latin typeface="Calibri"/>
              </a:rPr>
              <a:t>Co Ti asi přeji k svátku?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20503642" blurRad="0" rotWithShape="0">
                  <a:srgbClr val="ffffff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20503642" blurRad="0" rotWithShape="0">
                    <a:srgbClr val="ffffff"/>
                  </a:outerShdw>
                </a:effectLst>
                <a:latin typeface="Calibri"/>
              </a:rPr>
              <a:t>Ať máš život jak pohádku,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40186" dir="20503642" blurRad="0" rotWithShape="0">
                  <a:srgbClr val="ffffff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40186" dir="20503642" blurRad="0" rotWithShape="0">
                    <a:srgbClr val="ffffff"/>
                  </a:outerShdw>
                </a:effectLst>
                <a:latin typeface="Calibri"/>
              </a:rPr>
              <a:t>po čem toužíš, to ať máš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40186" dir="20503642" blurRad="0" rotWithShape="0">
                  <a:srgbClr val="ffffff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40186" dir="20503642" blurRad="0" rotWithShape="0">
                    <a:srgbClr val="ffffff"/>
                  </a:outerShdw>
                </a:effectLst>
                <a:latin typeface="Calibri"/>
              </a:rPr>
              <a:t>a dnešní den si užíváš.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40186" dir="20503642" blurRad="0" rotWithShape="0">
                  <a:srgbClr val="ffffff"/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308720" y="620640"/>
            <a:ext cx="1284480" cy="201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 rot="20709600">
            <a:off x="395280" y="117000"/>
            <a:ext cx="1990800" cy="2590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0773800">
            <a:off x="1763640" y="1557000"/>
            <a:ext cx="5292720" cy="26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2048040" cy="2066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462040" cy="256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20004600">
            <a:off x="250920" y="3933360"/>
            <a:ext cx="2305080" cy="228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 rot="19840800">
            <a:off x="684360" y="476280"/>
            <a:ext cx="1888920" cy="149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19280" y="1181160"/>
            <a:ext cx="5761080" cy="411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1052640"/>
            <a:ext cx="720108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300640"/>
            <a:ext cx="720108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-1114920" y="3211560"/>
            <a:ext cx="5326200" cy="14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788720" y="3211560"/>
            <a:ext cx="5326200" cy="14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96360" cy="587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4360" y="5084640"/>
            <a:ext cx="683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Přeji krásný den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7452360" y="5084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13:32Z</dcterms:created>
  <dc:creator>Soňa</dc:creator>
  <dc:description/>
  <dc:language>en-US</dc:language>
  <cp:lastModifiedBy>Soňa</cp:lastModifiedBy>
  <dcterms:modified xsi:type="dcterms:W3CDTF">2012-03-06T14:14:06Z</dcterms:modified>
  <cp:revision>1</cp:revision>
  <dc:subject/>
  <dc:title>Snímek 1</dc:title>
</cp:coreProperties>
</file>