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gif" ContentType="image/gif"/>
  <Override PartName="/ppt/media/image8.gif" ContentType="image/gif"/>
  <Override PartName="/ppt/media/image7.jpeg" ContentType="image/jpeg"/>
  <Override PartName="/ppt/media/image15.gif" ContentType="image/gif"/>
  <Override PartName="/ppt/media/image6.gif" ContentType="image/gif"/>
  <Override PartName="/ppt/media/image10.gif" ContentType="image/gif"/>
  <Override PartName="/ppt/media/sound001.wav" ContentType="audio/x-wav"/>
  <Override PartName="/ppt/media/image5.gif" ContentType="image/gif"/>
  <Override PartName="/ppt/media/image11.jpeg" ContentType="image/jpeg"/>
  <Override PartName="/ppt/media/image19.jpeg" ContentType="image/jpeg"/>
  <Override PartName="/ppt/media/image4.gif" ContentType="image/gif"/>
  <Override PartName="/ppt/media/image1.jpeg" ContentType="image/jpeg"/>
  <Override PartName="/ppt/media/image22.png" ContentType="image/png"/>
  <Override PartName="/ppt/media/image21.jpeg" ContentType="image/jpeg"/>
  <Override PartName="/ppt/media/image20.gif" ContentType="image/gif"/>
  <Override PartName="/ppt/media/image18.gif" ContentType="image/gif"/>
  <Override PartName="/ppt/media/image16.gif" ContentType="image/gif"/>
  <Override PartName="/ppt/media/image2.png" ContentType="image/png"/>
  <Override PartName="/ppt/media/image14.png" ContentType="image/png"/>
  <Override PartName="/ppt/media/image13.gif" ContentType="image/gif"/>
  <Override PartName="/ppt/media/image17.jpeg" ContentType="image/jpeg"/>
  <Override PartName="/ppt/media/image23.gif" ContentType="image/gi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B6B1-B62F-43C4-9858-8A5F57CC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A5B9-C54F-4935-8F38-20AF76AF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5DC-118B-4658-825B-1B0C9FC1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FD7C-46DB-451E-980D-873637A2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47BC-1220-4494-86CC-A8548130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7DA8-2973-46EC-B8EC-3CF09640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54D-16CA-4AA2-BE0E-EABF0689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19DB-F0F5-44EB-AF0F-350193A8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D24B-228A-46F8-AF11-AEE88D1B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5D6D-0951-4EF7-8DFE-FCD55DDB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ECB8-2A53-4534-82AF-1765AB61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3038-1C15-4990-A739-DBE449E7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BA03-C152-43B3-ACD2-6B25BE9F8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audio" Target="../media/sound001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image" Target="../media/image10.gif"/><Relationship Id="rId16" Type="http://schemas.openxmlformats.org/officeDocument/2006/relationships/image" Target="../media/image10.gif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gif"/><Relationship Id="rId11" Type="http://schemas.openxmlformats.org/officeDocument/2006/relationships/image" Target="../media/image14.png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image" Target="../media/image16.gi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608960" cy="4849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38800">
            <a:off x="5724360" y="549000"/>
            <a:ext cx="274320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kaDora"/>
              </a:rPr>
              <a:t>7. břez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kaDora"/>
              <a:ea typeface="akaDor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8360" y="260280"/>
            <a:ext cx="2808360" cy="10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kaDora"/>
              </a:rPr>
              <a:t>Tomá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kaDora"/>
              <a:ea typeface="akaDora"/>
            </a:endParaRPr>
          </a:p>
        </p:txBody>
      </p:sp>
    </p:spTree>
  </p:cSld>
  <p:transition spd="slow" advTm="11000">
    <p:dissolve/>
    <p:sndAc>
      <p:stSnd>
        <p:snd r:embed="rId7" name="sound0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47080" y="0"/>
            <a:ext cx="1996920" cy="201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8284200">
            <a:off x="5143320" y="3212640"/>
            <a:ext cx="4000320" cy="3267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71640" y="476280"/>
            <a:ext cx="7129440" cy="249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971640" y="6021360"/>
            <a:ext cx="7129440" cy="249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79280" y="838080"/>
            <a:ext cx="2484720" cy="4967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771640" y="1341360"/>
            <a:ext cx="6048360" cy="405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3240">
                  <a:solidFill>
                    <a:srgbClr val="993366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ff66cc"/>
                  </a:outerShdw>
                </a:effectLst>
                <a:latin typeface="akaDora"/>
              </a:rPr>
              <a:t>V roce je den jediný,</a:t>
            </a:r>
            <a:endParaRPr b="0" lang="en-US" sz="4000" spc="1" strike="noStrike">
              <a:ln w="3240">
                <a:solidFill>
                  <a:srgbClr val="993366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ff66cc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3240">
                  <a:solidFill>
                    <a:srgbClr val="993366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ff66cc"/>
                  </a:outerShdw>
                </a:effectLst>
                <a:latin typeface="akaDora"/>
              </a:rPr>
              <a:t>kdy slavíš své jmeniny.</a:t>
            </a:r>
            <a:endParaRPr b="0" lang="en-US" sz="4000" spc="1" strike="noStrike">
              <a:ln w="3240">
                <a:solidFill>
                  <a:srgbClr val="993366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ff66cc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3240">
                  <a:solidFill>
                    <a:srgbClr val="993366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ff66cc"/>
                  </a:outerShdw>
                </a:effectLst>
                <a:latin typeface="akaDora"/>
              </a:rPr>
              <a:t>Tak Ti přejem k tom svátku,</a:t>
            </a:r>
            <a:endParaRPr b="0" lang="en-US" sz="4000" spc="1" strike="noStrike">
              <a:ln w="3240">
                <a:solidFill>
                  <a:srgbClr val="993366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ff66cc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3240">
                  <a:solidFill>
                    <a:srgbClr val="993366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ff66cc"/>
                  </a:outerShdw>
                </a:effectLst>
                <a:latin typeface="akaDora"/>
              </a:rPr>
              <a:t>hezkých oslav dlouhou řádku.</a:t>
            </a:r>
            <a:endParaRPr b="0" lang="en-US" sz="4000" spc="1" strike="noStrike">
              <a:ln w="3240">
                <a:solidFill>
                  <a:srgbClr val="993366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ff66cc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3240">
                  <a:solidFill>
                    <a:srgbClr val="993366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ff66cc"/>
                  </a:outerShdw>
                </a:effectLst>
                <a:latin typeface="akaDora"/>
              </a:rPr>
              <a:t>Jak se v každém přání praví,</a:t>
            </a:r>
            <a:endParaRPr b="0" lang="en-US" sz="4000" spc="1" strike="noStrike">
              <a:ln w="3240">
                <a:solidFill>
                  <a:srgbClr val="993366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ff66cc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3240">
                  <a:solidFill>
                    <a:srgbClr val="993366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ff66cc"/>
                  </a:outerShdw>
                </a:effectLst>
                <a:latin typeface="akaDora"/>
              </a:rPr>
              <a:t>hodně štěstí, pevné zdraví...</a:t>
            </a:r>
            <a:endParaRPr b="0" lang="en-US" sz="4000" spc="1" strike="noStrike">
              <a:ln w="3240">
                <a:solidFill>
                  <a:srgbClr val="993366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ff66cc"/>
                </a:outerShdw>
              </a:effectLst>
              <a:latin typeface="akaDora"/>
              <a:ea typeface="akaDora"/>
            </a:endParaRPr>
          </a:p>
        </p:txBody>
      </p:sp>
    </p:spTree>
  </p:cSld>
  <p:transition spd="slow" advTm="15000">
    <p:randomBar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124000" y="1052640"/>
            <a:ext cx="561672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onotype Corsiva"/>
              </a:rPr>
              <a:t>Co Ti asi přeji k svátku?</a:t>
            </a:r>
            <a:endParaRPr b="0" lang="en-US" sz="1800" spc="1" strike="noStrike">
              <a:ln w="648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Monotype Corsiva"/>
              </a:rPr>
              <a:t>Ať máš život jak pohádku,</a:t>
            </a:r>
            <a:endParaRPr b="0" lang="en-US" sz="1800" spc="1" strike="noStrike">
              <a:ln w="6480">
                <a:solidFill>
                  <a:srgbClr val="8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8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Monotype Corsiva"/>
              </a:rPr>
              <a:t>po čem toužíš, to ať máš</a:t>
            </a:r>
            <a:endParaRPr b="0" lang="en-US" sz="1800" spc="1" strike="noStrike">
              <a:ln w="6480">
                <a:solidFill>
                  <a:srgbClr val="8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8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Monotype Corsiva"/>
              </a:rPr>
              <a:t>a dnešní den si užíváš...</a:t>
            </a:r>
            <a:endParaRPr b="0" lang="en-US" sz="1800" spc="1" strike="noStrike">
              <a:ln w="6480">
                <a:solidFill>
                  <a:srgbClr val="8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324000" y="5516640"/>
            <a:ext cx="125712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7093080" y="5380200"/>
            <a:ext cx="1819080" cy="1361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468360" y="549360"/>
            <a:ext cx="1008000" cy="417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7885080" y="333360"/>
            <a:ext cx="1008000" cy="4176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 rot="3339000">
            <a:off x="3011040" y="4773600"/>
            <a:ext cx="2381040" cy="25714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amond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940360" y="4581360"/>
            <a:ext cx="2843280" cy="1944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428472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924360" y="0"/>
            <a:ext cx="3058920" cy="3284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 rot="19636800">
            <a:off x="4265280" y="2491920"/>
            <a:ext cx="4878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80008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Já Ti přeji k Tvému svátku,</a:t>
            </a:r>
            <a:endParaRPr b="0" i="1" lang="en-US" sz="1800" spc="1" strike="noStrike">
              <a:ln w="3240">
                <a:solidFill>
                  <a:srgbClr val="80008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80008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plnou náruč krásných dárků...</a:t>
            </a:r>
            <a:endParaRPr b="0" i="1" lang="en-US" sz="1800" spc="1" strike="noStrike">
              <a:ln w="3240">
                <a:solidFill>
                  <a:srgbClr val="80008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slow" advTm="13000"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64960" y="549360"/>
            <a:ext cx="8628120" cy="5937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55640" y="765000"/>
            <a:ext cx="4103640" cy="2592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356000" y="907920"/>
            <a:ext cx="4103640" cy="2592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55640" y="3573360"/>
            <a:ext cx="4103640" cy="2592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4211640" y="3429000"/>
            <a:ext cx="4103640" cy="2592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2:03:39Z</dcterms:created>
  <dc:creator>Soňa</dc:creator>
  <dc:description/>
  <dc:language>en-US</dc:language>
  <cp:lastModifiedBy>Soňa</cp:lastModifiedBy>
  <dcterms:modified xsi:type="dcterms:W3CDTF">2012-03-06T12:08:37Z</dcterms:modified>
  <cp:revision>1</cp:revision>
  <dc:subject/>
  <dc:title>Snímek 1</dc:title>
</cp:coreProperties>
</file>