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33.gif" ContentType="image/gif"/>
  <Override PartName="/ppt/media/image28.png" ContentType="image/png"/>
  <Override PartName="/ppt/media/image5.gif" ContentType="image/gif"/>
  <Override PartName="/ppt/media/image25.gif" ContentType="image/gif"/>
  <Override PartName="/ppt/media/image6.jpeg" ContentType="image/jpeg"/>
  <Override PartName="/ppt/media/image20.png" ContentType="image/png"/>
  <Override PartName="/ppt/media/image24.png" ContentType="image/png"/>
  <Override PartName="/ppt/media/image11.jpeg" ContentType="image/jpeg"/>
  <Override PartName="/ppt/media/image21.gif" ContentType="image/gif"/>
  <Override PartName="/ppt/media/image2.png" ContentType="image/png"/>
  <Override PartName="/ppt/media/ticha1.wav" ContentType="audio/x-wav"/>
  <Override PartName="/ppt/media/image39.png" ContentType="image/png"/>
  <Override PartName="/ppt/media/image9.png" ContentType="image/png"/>
  <Override PartName="/ppt/media/image10.gif" ContentType="image/gif"/>
  <Override PartName="/ppt/media/image13.png" ContentType="image/png"/>
  <Override PartName="/ppt/media/image38.gif" ContentType="image/gif"/>
  <Override PartName="/ppt/media/image8.gif" ContentType="image/gif"/>
  <Override PartName="/ppt/media/image36.gif" ContentType="image/gif"/>
  <Override PartName="/ppt/media/image29.png" ContentType="image/png"/>
  <Override PartName="/ppt/media/image7.gif" ContentType="image/gif"/>
  <Override PartName="/ppt/media/image32.gif" ContentType="image/gif"/>
  <Override PartName="/ppt/media/image37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35.jpeg" ContentType="image/jpeg"/>
  <Override PartName="/ppt/media/image1.jpeg" ContentType="image/jpeg"/>
  <Override PartName="/ppt/media/image31.jpeg" ContentType="image/jpeg"/>
  <Override PartName="/ppt/media/image14.gif" ContentType="image/gif"/>
  <Override PartName="/ppt/media/image22.gif" ContentType="image/gif"/>
  <Override PartName="/ppt/media/image15.png" ContentType="image/png"/>
  <Override PartName="/ppt/media/image16.gif" ContentType="image/gif"/>
  <Override PartName="/ppt/media/image17.gif" ContentType="image/gif"/>
  <Override PartName="/ppt/media/image18.gif" ContentType="image/gif"/>
  <Override PartName="/ppt/media/image23.png" ContentType="image/png"/>
  <Override PartName="/ppt/media/image30.gif" ContentType="image/gif"/>
  <Override PartName="/ppt/media/image1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1B4A-98D9-4CD1-A21C-5E0FFE46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9885-C671-408E-BB14-72D6CB3D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79EF-CEDF-493C-8FA5-209F87BD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024C-6C14-42A9-8DA6-DC95579C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EAD2-F1C8-44CA-9AAB-FB0ECE0A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8304-3DBD-428C-93EE-2FD1F6BA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38D9-88EF-40C6-A772-E0685ADF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5E0A-A29D-4CBC-8F7D-6B8F3D16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F747-EB70-4E79-A106-E379600A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A7F8-4102-40A4-87B7-BBFEFCE5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441B-3CA2-4795-9473-220E9C0D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151D-D98B-4606-98E8-E213032A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3C41-23EB-4F16-9BBF-0E62FEF60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audio" Target="../media/ticha1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1.jpe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gif"/><Relationship Id="rId18" Type="http://schemas.openxmlformats.org/officeDocument/2006/relationships/image" Target="../media/image14.gif"/><Relationship Id="rId19" Type="http://schemas.openxmlformats.org/officeDocument/2006/relationships/image" Target="../media/image15.png"/><Relationship Id="rId20" Type="http://schemas.openxmlformats.org/officeDocument/2006/relationships/image" Target="../media/image16.gif"/><Relationship Id="rId21" Type="http://schemas.openxmlformats.org/officeDocument/2006/relationships/image" Target="../media/image11.jpeg"/><Relationship Id="rId22" Type="http://schemas.openxmlformats.org/officeDocument/2006/relationships/image" Target="../media/image3.gif"/><Relationship Id="rId23" Type="http://schemas.openxmlformats.org/officeDocument/2006/relationships/image" Target="../media/image17.gif"/><Relationship Id="rId24" Type="http://schemas.openxmlformats.org/officeDocument/2006/relationships/image" Target="../media/image17.gif"/><Relationship Id="rId25" Type="http://schemas.openxmlformats.org/officeDocument/2006/relationships/image" Target="../media/image17.gif"/><Relationship Id="rId26" Type="http://schemas.openxmlformats.org/officeDocument/2006/relationships/image" Target="../media/image17.gif"/><Relationship Id="rId27" Type="http://schemas.openxmlformats.org/officeDocument/2006/relationships/image" Target="../media/image17.gif"/><Relationship Id="rId28" Type="http://schemas.openxmlformats.org/officeDocument/2006/relationships/image" Target="../media/image17.gif"/><Relationship Id="rId29" Type="http://schemas.openxmlformats.org/officeDocument/2006/relationships/image" Target="../media/image17.gif"/><Relationship Id="rId30" Type="http://schemas.openxmlformats.org/officeDocument/2006/relationships/image" Target="../media/image17.gif"/><Relationship Id="rId31" Type="http://schemas.openxmlformats.org/officeDocument/2006/relationships/image" Target="../media/image17.gif"/><Relationship Id="rId32" Type="http://schemas.openxmlformats.org/officeDocument/2006/relationships/image" Target="../media/image17.gif"/><Relationship Id="rId3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21.gif"/><Relationship Id="rId9" Type="http://schemas.openxmlformats.org/officeDocument/2006/relationships/image" Target="../media/image22.gif"/><Relationship Id="rId10" Type="http://schemas.openxmlformats.org/officeDocument/2006/relationships/image" Target="../media/image23.png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image" Target="../media/image30.gif"/><Relationship Id="rId12" Type="http://schemas.openxmlformats.org/officeDocument/2006/relationships/image" Target="../media/image30.gif"/><Relationship Id="rId13" Type="http://schemas.openxmlformats.org/officeDocument/2006/relationships/image" Target="../media/image30.gif"/><Relationship Id="rId14" Type="http://schemas.openxmlformats.org/officeDocument/2006/relationships/image" Target="../media/image30.gif"/><Relationship Id="rId15" Type="http://schemas.openxmlformats.org/officeDocument/2006/relationships/image" Target="../media/image30.gif"/><Relationship Id="rId16" Type="http://schemas.openxmlformats.org/officeDocument/2006/relationships/image" Target="../media/image30.gif"/><Relationship Id="rId17" Type="http://schemas.openxmlformats.org/officeDocument/2006/relationships/image" Target="../media/image30.gif"/><Relationship Id="rId18" Type="http://schemas.openxmlformats.org/officeDocument/2006/relationships/image" Target="../media/image30.gif"/><Relationship Id="rId19" Type="http://schemas.openxmlformats.org/officeDocument/2006/relationships/image" Target="../media/image30.gif"/><Relationship Id="rId20" Type="http://schemas.openxmlformats.org/officeDocument/2006/relationships/image" Target="../media/image30.gif"/><Relationship Id="rId21" Type="http://schemas.openxmlformats.org/officeDocument/2006/relationships/image" Target="../media/image30.gif"/><Relationship Id="rId22" Type="http://schemas.openxmlformats.org/officeDocument/2006/relationships/image" Target="../media/image30.gif"/><Relationship Id="rId23" Type="http://schemas.openxmlformats.org/officeDocument/2006/relationships/image" Target="../media/image30.gif"/><Relationship Id="rId24" Type="http://schemas.openxmlformats.org/officeDocument/2006/relationships/image" Target="../media/image30.gif"/><Relationship Id="rId25" Type="http://schemas.openxmlformats.org/officeDocument/2006/relationships/image" Target="../media/image30.gif"/><Relationship Id="rId26" Type="http://schemas.openxmlformats.org/officeDocument/2006/relationships/image" Target="../media/image30.gif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3.gi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36.gif"/><Relationship Id="rId6" Type="http://schemas.openxmlformats.org/officeDocument/2006/relationships/image" Target="../media/image36.gif"/><Relationship Id="rId7" Type="http://schemas.openxmlformats.org/officeDocument/2006/relationships/image" Target="../media/image37.png"/><Relationship Id="rId8" Type="http://schemas.openxmlformats.org/officeDocument/2006/relationships/image" Target="../media/image38.gif"/><Relationship Id="rId9" Type="http://schemas.openxmlformats.org/officeDocument/2006/relationships/image" Target="../media/image38.gif"/><Relationship Id="rId10" Type="http://schemas.openxmlformats.org/officeDocument/2006/relationships/image" Target="../media/image5.gif"/><Relationship Id="rId11" Type="http://schemas.openxmlformats.org/officeDocument/2006/relationships/image" Target="../media/image39.png"/><Relationship Id="rId12" Type="http://schemas.openxmlformats.org/officeDocument/2006/relationships/image" Target="../media/image5.gi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364000" y="836640"/>
            <a:ext cx="2737080" cy="338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84720" y="1197000"/>
            <a:ext cx="962280" cy="914400"/>
          </a:xfrm>
          <a:prstGeom prst="star5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ecf9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2124000" y="5392800"/>
            <a:ext cx="1079640" cy="1465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rot="1192800">
            <a:off x="7524360" y="188640"/>
            <a:ext cx="961920" cy="914400"/>
          </a:xfrm>
          <a:prstGeom prst="star5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ecf9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192800">
            <a:off x="250560" y="0"/>
            <a:ext cx="961920" cy="914400"/>
          </a:xfrm>
          <a:prstGeom prst="star5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ecf9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4643280" y="54936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2916360" y="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6516720" y="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8315280" y="342900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1258920" y="328464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179280" y="1916280"/>
            <a:ext cx="684360" cy="684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Bar dir="vert"/>
    <p:sndAc>
      <p:stSnd>
        <p:snd r:embed="rId13" name="ticha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000"/>
                            </p:stCondLst>
                            <p:childTnLst>
                              <p:par>
                                <p:cTn id="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50000">
              <a:srgbClr val="ffffff"/>
            </a:gs>
            <a:gs pos="100000">
              <a:srgbClr val="a1a1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esk2"/>
          <p:cNvSpPr/>
          <p:nvPr/>
        </p:nvSpPr>
        <p:spPr>
          <a:xfrm>
            <a:off x="7334280" y="5048280"/>
            <a:ext cx="1809720" cy="180972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808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esk2"/>
          <p:cNvSpPr/>
          <p:nvPr/>
        </p:nvSpPr>
        <p:spPr>
          <a:xfrm rot="10800000">
            <a:off x="-360" y="-360"/>
            <a:ext cx="1809720" cy="180972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esk2"/>
          <p:cNvSpPr/>
          <p:nvPr/>
        </p:nvSpPr>
        <p:spPr>
          <a:xfrm rot="16200000">
            <a:off x="7334280" y="-360"/>
            <a:ext cx="1809720" cy="180972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esk2"/>
          <p:cNvSpPr/>
          <p:nvPr/>
        </p:nvSpPr>
        <p:spPr>
          <a:xfrm rot="5400000">
            <a:off x="-360" y="5048280"/>
            <a:ext cx="1809720" cy="180972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268360" y="5334120"/>
            <a:ext cx="4572000" cy="1523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84360" y="1125360"/>
            <a:ext cx="733320" cy="2657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7596360" y="981000"/>
            <a:ext cx="733320" cy="2657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8317080" y="6021360"/>
            <a:ext cx="1095120" cy="1019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-252360" y="6154560"/>
            <a:ext cx="1095480" cy="1019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0" y="6248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8534520" y="6093000"/>
            <a:ext cx="609480" cy="765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2"/>
          <a:stretch/>
        </p:blipFill>
        <p:spPr>
          <a:xfrm>
            <a:off x="755640" y="1628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3"/>
          <a:stretch/>
        </p:blipFill>
        <p:spPr>
          <a:xfrm>
            <a:off x="7667640" y="14842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65" name="Cloud"/>
          <p:cNvSpPr/>
          <p:nvPr/>
        </p:nvSpPr>
        <p:spPr>
          <a:xfrm>
            <a:off x="2987640" y="765000"/>
            <a:ext cx="2743200" cy="1838520"/>
          </a:xfrm>
          <a:prstGeom prst="pi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5"/>
          <a:stretch/>
        </p:blipFill>
        <p:spPr>
          <a:xfrm>
            <a:off x="1403280" y="2781360"/>
            <a:ext cx="6335640" cy="2663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6"/>
          <a:stretch/>
        </p:blipFill>
        <p:spPr>
          <a:xfrm>
            <a:off x="6804000" y="4292640"/>
            <a:ext cx="1352520" cy="1409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rot="10800000">
            <a:off x="8316720" y="0"/>
            <a:ext cx="826920" cy="907920"/>
          </a:xfrm>
          <a:prstGeom prst="rtTriangle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-40680" y="40320"/>
            <a:ext cx="836640" cy="755640"/>
          </a:xfrm>
          <a:prstGeom prst="rtTriangle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9"/>
          <a:stretch/>
        </p:blipFill>
        <p:spPr>
          <a:xfrm rot="20236200">
            <a:off x="2916360" y="549000"/>
            <a:ext cx="3047760" cy="2527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0"/>
          <a:stretch/>
        </p:blipFill>
        <p:spPr>
          <a:xfrm>
            <a:off x="1908000" y="-144360"/>
            <a:ext cx="5400720" cy="1412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372360" y="1916280"/>
            <a:ext cx="914400" cy="720720"/>
          </a:xfrm>
          <a:prstGeom prst="cloudCallout">
            <a:avLst>
              <a:gd name="adj1" fmla="val -43750"/>
              <a:gd name="adj2" fmla="val 51541"/>
            </a:avLst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88000" y="2060640"/>
            <a:ext cx="432000" cy="431640"/>
          </a:xfrm>
          <a:prstGeom prst="star5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3"/>
          <a:stretch/>
        </p:blipFill>
        <p:spPr>
          <a:xfrm>
            <a:off x="324000" y="3429000"/>
            <a:ext cx="647640" cy="573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4"/>
          <a:stretch/>
        </p:blipFill>
        <p:spPr>
          <a:xfrm>
            <a:off x="395280" y="4076640"/>
            <a:ext cx="647640" cy="573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5"/>
          <a:stretch/>
        </p:blipFill>
        <p:spPr>
          <a:xfrm>
            <a:off x="900000" y="3933720"/>
            <a:ext cx="647640" cy="573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6"/>
          <a:stretch/>
        </p:blipFill>
        <p:spPr>
          <a:xfrm>
            <a:off x="179280" y="2565360"/>
            <a:ext cx="647640" cy="573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7"/>
          <a:stretch/>
        </p:blipFill>
        <p:spPr>
          <a:xfrm>
            <a:off x="1547640" y="2349360"/>
            <a:ext cx="648000" cy="573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8"/>
          <a:stretch/>
        </p:blipFill>
        <p:spPr>
          <a:xfrm>
            <a:off x="1042920" y="4653000"/>
            <a:ext cx="647640" cy="573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9"/>
          <a:stretch/>
        </p:blipFill>
        <p:spPr>
          <a:xfrm>
            <a:off x="8172360" y="3860640"/>
            <a:ext cx="647640" cy="573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0"/>
          <a:stretch/>
        </p:blipFill>
        <p:spPr>
          <a:xfrm>
            <a:off x="8244000" y="2997360"/>
            <a:ext cx="647640" cy="572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1"/>
          <a:stretch/>
        </p:blipFill>
        <p:spPr>
          <a:xfrm>
            <a:off x="7020000" y="2637000"/>
            <a:ext cx="647640" cy="572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2"/>
          <a:stretch/>
        </p:blipFill>
        <p:spPr>
          <a:xfrm>
            <a:off x="8496360" y="1989000"/>
            <a:ext cx="647640" cy="5731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146560" cy="3989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50920" y="1268280"/>
            <a:ext cx="5329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63640" y="1341360"/>
            <a:ext cx="43200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95640" y="5229360"/>
            <a:ext cx="504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48360" y="1628640"/>
            <a:ext cx="287640" cy="36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610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9144000" cy="328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716960" y="0"/>
            <a:ext cx="1427040" cy="3213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7716960" y="3645000"/>
            <a:ext cx="1427040" cy="3213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8172360" y="476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8101080" y="414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2195640" y="6021360"/>
            <a:ext cx="5238720" cy="380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1908000" y="1844640"/>
            <a:ext cx="5715000" cy="3914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0"/>
          <a:stretch/>
        </p:blipFill>
        <p:spPr>
          <a:xfrm>
            <a:off x="2411280" y="0"/>
            <a:ext cx="4537080" cy="2133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496200">
            <a:off x="1907640" y="1989000"/>
            <a:ext cx="2876760" cy="828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496200">
            <a:off x="4787640" y="5516640"/>
            <a:ext cx="2876400" cy="82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308000">
            <a:off x="4716360" y="1988280"/>
            <a:ext cx="2911680" cy="716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1120000">
            <a:off x="1908000" y="5516280"/>
            <a:ext cx="2883240" cy="842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505480" y="4000680"/>
            <a:ext cx="3638520" cy="2857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-468360" y="-316080"/>
            <a:ext cx="2882880" cy="3264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547640" y="1052640"/>
            <a:ext cx="7418520" cy="3671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0" y="4653000"/>
            <a:ext cx="5076720" cy="2205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 rot="1750200">
            <a:off x="6732720" y="447480"/>
            <a:ext cx="2466720" cy="1028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1979640" y="442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385128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0"/>
          <a:stretch/>
        </p:blipFill>
        <p:spPr>
          <a:xfrm>
            <a:off x="579600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1"/>
          <a:stretch/>
        </p:blipFill>
        <p:spPr>
          <a:xfrm>
            <a:off x="7451640" y="0"/>
            <a:ext cx="1692360" cy="190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2"/>
          <a:stretch/>
        </p:blipFill>
        <p:spPr>
          <a:xfrm>
            <a:off x="0" y="191628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1908000" y="19890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3780000" y="191628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5651640" y="184464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7418520" y="1916280"/>
            <a:ext cx="1725480" cy="1904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0" y="378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1979640" y="386064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9"/>
          <a:stretch/>
        </p:blipFill>
        <p:spPr>
          <a:xfrm>
            <a:off x="3851280" y="378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0"/>
          <a:stretch/>
        </p:blipFill>
        <p:spPr>
          <a:xfrm>
            <a:off x="5724360" y="378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1"/>
          <a:stretch/>
        </p:blipFill>
        <p:spPr>
          <a:xfrm>
            <a:off x="7238880" y="378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2"/>
          <a:stretch/>
        </p:blipFill>
        <p:spPr>
          <a:xfrm>
            <a:off x="0" y="537372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3"/>
          <a:stretch/>
        </p:blipFill>
        <p:spPr>
          <a:xfrm>
            <a:off x="1908000" y="5589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4"/>
          <a:stretch/>
        </p:blipFill>
        <p:spPr>
          <a:xfrm>
            <a:off x="3851280" y="551664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5"/>
          <a:stretch/>
        </p:blipFill>
        <p:spPr>
          <a:xfrm>
            <a:off x="5724360" y="54450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6"/>
          <a:stretch/>
        </p:blipFill>
        <p:spPr>
          <a:xfrm>
            <a:off x="7238880" y="55897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95640" cy="428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 rot="21396000">
            <a:off x="2987280" y="0"/>
            <a:ext cx="3095640" cy="428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048360" y="47520"/>
            <a:ext cx="3095640" cy="4287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7093080" y="4508640"/>
            <a:ext cx="1361880" cy="1361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3419640" y="476280"/>
            <a:ext cx="2566800" cy="3838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570320" y="5348160"/>
            <a:ext cx="574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Sněhové vločky k zemi se snáší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mráz si s okny pohrává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Vánoční čas nastává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newsflash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" y="765000"/>
            <a:ext cx="7772400" cy="5328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172360" y="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020000" y="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8315280" y="112536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116000" y="2060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1258920" y="2565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1187280" y="4508640"/>
            <a:ext cx="6769440" cy="1571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884720" y="5805360"/>
            <a:ext cx="53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Soň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-324000" y="6308640"/>
            <a:ext cx="5724720" cy="200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9"/>
          <a:stretch/>
        </p:blipFill>
        <p:spPr>
          <a:xfrm>
            <a:off x="3600360" y="6308640"/>
            <a:ext cx="57247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0"/>
          <a:stretch/>
        </p:blipFill>
        <p:spPr>
          <a:xfrm>
            <a:off x="250920" y="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1"/>
          <a:stretch/>
        </p:blipFill>
        <p:spPr>
          <a:xfrm rot="20752200">
            <a:off x="-545760" y="-100080"/>
            <a:ext cx="4178160" cy="3411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2"/>
          <a:stretch/>
        </p:blipFill>
        <p:spPr>
          <a:xfrm>
            <a:off x="1332000" y="1052640"/>
            <a:ext cx="828720" cy="8287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5:32:11Z</dcterms:created>
  <dc:creator>Soňa</dc:creator>
  <dc:description/>
  <dc:language>en-US</dc:language>
  <cp:lastModifiedBy>Soňa</cp:lastModifiedBy>
  <dcterms:modified xsi:type="dcterms:W3CDTF">2012-01-15T15:34:34Z</dcterms:modified>
  <cp:revision>1</cp:revision>
  <dc:subject/>
  <dc:title>Snímek 1</dc:title>
</cp:coreProperties>
</file>