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5.jpeg" ContentType="image/jpeg"/>
  <Override PartName="/ppt/media/image32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20.gif" ContentType="image/gif"/>
  <Override PartName="/ppt/media/image19.jpeg" ContentType="image/jpeg"/>
  <Override PartName="/ppt/media/image2.gif" ContentType="image/gif"/>
  <Override PartName="/ppt/media/image18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vannoc1.wav" ContentType="audio/x-wav"/>
  <Override PartName="/ppt/media/image8.gif" ContentType="image/gif"/>
  <Override PartName="/ppt/media/image9.jpeg" ContentType="image/jpeg"/>
  <Override PartName="/ppt/media/image36.jpeg" ContentType="image/jpeg"/>
  <Override PartName="/ppt/media/image38.png" ContentType="image/png"/>
  <Override PartName="/ppt/media/image40.png" ContentType="image/png"/>
  <Override PartName="/ppt/media/image12.png" ContentType="image/png"/>
  <Override PartName="/ppt/media/image30.gif" ContentType="image/gif"/>
  <Override PartName="/ppt/media/image34.png" ContentType="image/png"/>
  <Override PartName="/ppt/media/image6.gif" ContentType="image/gif"/>
  <Override PartName="/ppt/media/image5.png" ContentType="image/png"/>
  <Override PartName="/ppt/media/image28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29.jpeg" ContentType="image/jpeg"/>
  <Override PartName="/ppt/media/image7.gif" ContentType="image/gif"/>
  <Override PartName="/ppt/media/image11.gif" ContentType="image/gif"/>
  <Override PartName="/ppt/media/image4.gif" ContentType="image/gif"/>
  <Override PartName="/ppt/media/image27.gif" ContentType="image/gif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gif" ContentType="image/gif"/>
  <Override PartName="/ppt/media/image1.gif" ContentType="image/gif"/>
  <Override PartName="/ppt/media/image13.gif" ContentType="image/gif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EC5-0839-4317-93FB-8126E9D8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993-3845-45EA-A518-A105BF69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91B-BB08-4A7A-9904-D6AA7525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512-745C-49F6-AEA7-E6F27518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C94-C8FC-4A46-9CFC-57B620C1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67C-C91E-4518-87E2-24E9BC9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30B-CD54-41C5-9B6C-D20035F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E37-9F3E-451E-87A1-0E3FBA6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643-5170-4AB0-941D-AAA14F4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5D3-89E1-428E-9E54-370B4D6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6EC-70BA-4480-9610-56F1FAA4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45F-8699-4D8C-B9C9-FD81B55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47F8-BE80-4159-ACA6-4DC7F6CB2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audio" Target="../media/vannoc1.wav"/><Relationship Id="rId1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8.gif"/><Relationship Id="rId6" Type="http://schemas.openxmlformats.org/officeDocument/2006/relationships/image" Target="../media/image13.gif"/><Relationship Id="rId7" Type="http://schemas.openxmlformats.org/officeDocument/2006/relationships/image" Target="../media/image8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4.gif"/><Relationship Id="rId29" Type="http://schemas.openxmlformats.org/officeDocument/2006/relationships/image" Target="../media/image14.gif"/><Relationship Id="rId30" Type="http://schemas.openxmlformats.org/officeDocument/2006/relationships/image" Target="../media/image13.gif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image" Target="../media/image31.gif"/><Relationship Id="rId16" Type="http://schemas.openxmlformats.org/officeDocument/2006/relationships/image" Target="../media/image31.gif"/><Relationship Id="rId17" Type="http://schemas.openxmlformats.org/officeDocument/2006/relationships/image" Target="../media/image31.gif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1.gi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41.png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324320" cy="2838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8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5977080" cy="236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8496000" cy="15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-468360" y="-387360"/>
            <a:ext cx="2882880" cy="32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335772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943760" y="3357720"/>
            <a:ext cx="120024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294200">
            <a:off x="250920" y="5516280"/>
            <a:ext cx="914400" cy="914400"/>
          </a:xfrm>
          <a:custGeom>
            <a:avLst/>
            <a:gdLst>
              <a:gd name="textAreaLeft" fmla="*/ 348480 w 914400"/>
              <a:gd name="textAreaRight" fmla="*/ 565920 w 914400"/>
              <a:gd name="textAreaTop" fmla="*/ 348480 h 914400"/>
              <a:gd name="textAreaBottom" fmla="*/ 565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34" y="8234"/>
                </a:lnTo>
                <a:lnTo>
                  <a:pt x="10800" y="0"/>
                </a:lnTo>
                <a:lnTo>
                  <a:pt x="13366" y="8234"/>
                </a:lnTo>
                <a:lnTo>
                  <a:pt x="21600" y="10800"/>
                </a:lnTo>
                <a:lnTo>
                  <a:pt x="13366" y="13366"/>
                </a:lnTo>
                <a:lnTo>
                  <a:pt x="10800" y="21600"/>
                </a:lnTo>
                <a:lnTo>
                  <a:pt x="8234" y="1336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94200">
            <a:off x="7956720" y="5516280"/>
            <a:ext cx="914400" cy="914400"/>
          </a:xfrm>
          <a:custGeom>
            <a:avLst/>
            <a:gdLst>
              <a:gd name="textAreaLeft" fmla="*/ 348480 w 914400"/>
              <a:gd name="textAreaRight" fmla="*/ 565920 w 914400"/>
              <a:gd name="textAreaTop" fmla="*/ 348480 h 914400"/>
              <a:gd name="textAreaBottom" fmla="*/ 565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34" y="8234"/>
                </a:lnTo>
                <a:lnTo>
                  <a:pt x="10800" y="0"/>
                </a:lnTo>
                <a:lnTo>
                  <a:pt x="13366" y="8234"/>
                </a:lnTo>
                <a:lnTo>
                  <a:pt x="21600" y="10800"/>
                </a:lnTo>
                <a:lnTo>
                  <a:pt x="13366" y="13366"/>
                </a:lnTo>
                <a:lnTo>
                  <a:pt x="10800" y="21600"/>
                </a:lnTo>
                <a:lnTo>
                  <a:pt x="8234" y="1336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24000" y="18900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524720" y="620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258920" y="2205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372360" y="2276640"/>
            <a:ext cx="828720" cy="828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ld"/>
    <p:sndAc>
      <p:stSnd>
        <p:snd r:embed="rId14" name="vannoc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1657440" cy="209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156360" y="3179880"/>
            <a:ext cx="2905200" cy="356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47520" y="-155520"/>
            <a:ext cx="2171520" cy="31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27640" y="3429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042920" y="18446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2400" y="90792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Až zazní zvoneč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rozsvítí se vánoční stromeček</a:t>
            </a:r>
            <a:r>
              <a:rPr b="0" i="1" lang="en-US" sz="2400" spc="-1" strike="noStrike">
                <a:solidFill>
                  <a:srgbClr val="d60093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5265720"/>
            <a:ext cx="46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Malé i velké dárky rozbalte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a hlavně na všechny blíz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na Vánoce vzpomeňte s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164360" y="2997360"/>
            <a:ext cx="828720" cy="82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2484360" y="270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1692360" y="328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059280" y="3645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1979640" y="3860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395280" y="3357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1042920" y="429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4716360" y="19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8028000" y="206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6"/>
          <a:stretch/>
        </p:blipFill>
        <p:spPr>
          <a:xfrm>
            <a:off x="5364000" y="263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586728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6227640" y="29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732720" y="2060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0"/>
          <a:stretch/>
        </p:blipFill>
        <p:spPr>
          <a:xfrm>
            <a:off x="8388360" y="328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1"/>
          <a:stretch/>
        </p:blipFill>
        <p:spPr>
          <a:xfrm>
            <a:off x="3059280" y="4508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2"/>
          <a:stretch/>
        </p:blipFill>
        <p:spPr>
          <a:xfrm>
            <a:off x="5940360" y="371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3"/>
          <a:stretch/>
        </p:blipFill>
        <p:spPr>
          <a:xfrm>
            <a:off x="4500720" y="333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4"/>
          <a:stretch/>
        </p:blipFill>
        <p:spPr>
          <a:xfrm>
            <a:off x="536400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5"/>
          <a:stretch/>
        </p:blipFill>
        <p:spPr>
          <a:xfrm>
            <a:off x="6012000" y="189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6"/>
          <a:stretch/>
        </p:blipFill>
        <p:spPr>
          <a:xfrm>
            <a:off x="658800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7"/>
          <a:stretch/>
        </p:blipFill>
        <p:spPr>
          <a:xfrm>
            <a:off x="7524720" y="1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8"/>
          <a:stretch/>
        </p:blipFill>
        <p:spPr>
          <a:xfrm>
            <a:off x="7885080" y="907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9"/>
          <a:stretch/>
        </p:blipFill>
        <p:spPr>
          <a:xfrm>
            <a:off x="838836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0"/>
          <a:stretch/>
        </p:blipFill>
        <p:spPr>
          <a:xfrm>
            <a:off x="1187280" y="2349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4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4980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986360"/>
            <a:ext cx="9144000" cy="1871640"/>
          </a:xfrm>
          <a:prstGeom prst="rect">
            <a:avLst/>
          </a:prstGeom>
          <a:gradFill rotWithShape="0">
            <a:gsLst>
              <a:gs pos="0">
                <a:srgbClr val="eaea1e"/>
              </a:gs>
              <a:gs pos="50000">
                <a:srgbClr val="ffffff"/>
              </a:gs>
              <a:gs pos="100000">
                <a:srgbClr val="eaea1e"/>
              </a:gs>
            </a:gsLst>
            <a:lin ang="5400000"/>
          </a:grad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2360" y="4919760"/>
            <a:ext cx="5688000" cy="1893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56720" y="189000"/>
            <a:ext cx="900000" cy="119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956720" y="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03280" y="1413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0" y="5013360"/>
            <a:ext cx="1979640" cy="184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164360" y="4913280"/>
            <a:ext cx="197964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360" y="189000"/>
            <a:ext cx="2609640" cy="2647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7553520" cy="282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724360" y="1125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012000" y="1341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451640" y="1125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7740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971640" y="6165720"/>
            <a:ext cx="7632720" cy="29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1258920" y="3068640"/>
            <a:ext cx="6912000" cy="23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549360"/>
            <a:ext cx="601560" cy="647640"/>
          </a:xfrm>
          <a:prstGeom prst="star5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924280"/>
            <a:ext cx="601560" cy="647640"/>
          </a:xfrm>
          <a:prstGeom prst="star5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2133720"/>
            <a:ext cx="601560" cy="647640"/>
          </a:xfrm>
          <a:prstGeom prst="star5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260280"/>
            <a:ext cx="601560" cy="647640"/>
          </a:xfrm>
          <a:prstGeom prst="star5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2349360"/>
            <a:ext cx="601920" cy="648000"/>
          </a:xfrm>
          <a:prstGeom prst="star5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0"/>
            <a:ext cx="601920" cy="647640"/>
          </a:xfrm>
          <a:prstGeom prst="star5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01080" y="2637000"/>
            <a:ext cx="601560" cy="647640"/>
          </a:xfrm>
          <a:prstGeom prst="star5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5300640"/>
            <a:ext cx="601920" cy="647640"/>
          </a:xfrm>
          <a:prstGeom prst="star5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5661000"/>
            <a:ext cx="601560" cy="647640"/>
          </a:xfrm>
          <a:prstGeom prst="star5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72360" y="3933720"/>
            <a:ext cx="601920" cy="647640"/>
          </a:xfrm>
          <a:prstGeom prst="star5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981000"/>
            <a:ext cx="601560" cy="647640"/>
          </a:xfrm>
          <a:prstGeom prst="star5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eae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564000" y="4365720"/>
            <a:ext cx="2638440" cy="190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975200">
            <a:off x="5076360" y="189000"/>
            <a:ext cx="475308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81400" y="2133720"/>
            <a:ext cx="50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em letí Ježíš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uká mu pod kožíš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eze plný pytel dárk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 každého má svou várku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179280" y="2781360"/>
            <a:ext cx="3168720" cy="212400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237636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443640" y="62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7812000" y="1557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059280" y="1268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4211640" y="40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5003640" y="1341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9528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1619280" y="544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6732720" y="4221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172360" y="5661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327672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/>
          <a:stretch/>
        </p:blipFill>
        <p:spPr>
          <a:xfrm>
            <a:off x="8172360" y="4005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8"/>
          <a:stretch/>
        </p:blipFill>
        <p:spPr>
          <a:xfrm>
            <a:off x="5975280" y="3716280"/>
            <a:ext cx="3168720" cy="3336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9"/>
          <a:stretch/>
        </p:blipFill>
        <p:spPr>
          <a:xfrm rot="20490000">
            <a:off x="250560" y="4257720"/>
            <a:ext cx="2662200" cy="2600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0"/>
          <a:stretch/>
        </p:blipFill>
        <p:spPr>
          <a:xfrm rot="1188000">
            <a:off x="3634920" y="-315720"/>
            <a:ext cx="2689200" cy="2581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1"/>
          <a:stretch/>
        </p:blipFill>
        <p:spPr>
          <a:xfrm>
            <a:off x="4643280" y="692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620640"/>
            <a:ext cx="7772400" cy="5545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631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76360" y="278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187280" y="357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1692360" y="3213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18160" y="6381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Soň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2340000" y="4365720"/>
            <a:ext cx="6048360" cy="1882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7610400" y="549360"/>
            <a:ext cx="153360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7569360" y="0"/>
            <a:ext cx="1574640" cy="1231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810108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8244000" y="1628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3"/>
          <a:stretch/>
        </p:blipFill>
        <p:spPr>
          <a:xfrm>
            <a:off x="7885080" y="191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4"/>
          <a:stretch/>
        </p:blipFill>
        <p:spPr>
          <a:xfrm>
            <a:off x="7956720" y="260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5"/>
          <a:stretch/>
        </p:blipFill>
        <p:spPr>
          <a:xfrm>
            <a:off x="-324000" y="260280"/>
            <a:ext cx="3619800" cy="537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6"/>
          <a:stretch/>
        </p:blipFill>
        <p:spPr>
          <a:xfrm>
            <a:off x="1258920" y="306864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17:37Z</dcterms:created>
  <dc:creator>Soňa</dc:creator>
  <dc:description/>
  <dc:language>en-US</dc:language>
  <cp:lastModifiedBy>Soňa</cp:lastModifiedBy>
  <dcterms:modified xsi:type="dcterms:W3CDTF">2012-01-15T14:23:35Z</dcterms:modified>
  <cp:revision>1</cp:revision>
  <dc:subject/>
  <dc:title>Snímek 1</dc:title>
</cp:coreProperties>
</file>