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2.png" ContentType="image/png"/>
  <Override PartName="/ppt/media/image21.jpeg" ContentType="image/jpeg"/>
  <Override PartName="/ppt/media/image20.jpeg" ContentType="image/jpeg"/>
  <Override PartName="/ppt/media/image24.png" ContentType="image/png"/>
  <Override PartName="/ppt/media/image1.gif" ContentType="image/gif"/>
  <Override PartName="/ppt/media/image31.gif" ContentType="image/gif"/>
  <Override PartName="/ppt/media/image19.gif" ContentType="image/gif"/>
  <Override PartName="/ppt/media/image16.gif" ContentType="image/gif"/>
  <Override PartName="/ppt/media/image10.gif" ContentType="image/gif"/>
  <Override PartName="/ppt/media/image4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29.gif" ContentType="image/gif"/>
  <Override PartName="/ppt/media/ave1.wav" ContentType="audio/x-wav"/>
  <Override PartName="/ppt/media/image11.gif" ContentType="image/gif"/>
  <Override PartName="/ppt/media/image36.png" ContentType="image/png"/>
  <Override PartName="/ppt/media/image38.gif" ContentType="image/gif"/>
  <Override PartName="/ppt/media/image8.gif" ContentType="image/gif"/>
  <Override PartName="/ppt/media/image37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15.gif" ContentType="image/gif"/>
  <Override PartName="/ppt/media/image2.gif" ContentType="image/gif"/>
  <Override PartName="/ppt/media/image18.png" ContentType="image/png"/>
  <Override PartName="/ppt/media/image25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28.png" ContentType="image/png"/>
  <Override PartName="/ppt/media/image35.gif" ContentType="image/gif"/>
  <Override PartName="/ppt/media/image13.jpeg" ContentType="image/jpeg"/>
  <Override PartName="/ppt/media/image30.gif" ContentType="image/gif"/>
  <Override PartName="/ppt/media/image23.png" ContentType="image/png"/>
  <Override PartName="/ppt/media/image14.gif" ContentType="image/gif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5B2-C059-46BE-A98F-C4458EE4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DE2-F457-4BA5-8FB9-E343B102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63F-70F0-44AA-885D-E1A4CCDE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B03-E1FA-480F-B2DE-37614F9F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5AB-45D2-4DEE-8E02-9555EF1B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4DC-6AB2-4651-9A3F-7DC25BD2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873-11FA-4F24-BD97-0C7BD973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DAB-7544-4E60-8BD2-BB3DC84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952-5C7D-4947-94B7-5183576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4C8-F2F5-40D2-9FBE-14E62EBF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FE9-C1AD-4546-A2D3-363D3EF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34A-C928-4DFE-9365-D07C93D7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8416-7E4F-4FCC-8CEE-74AA43C87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audio" Target="../media/ave1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png"/><Relationship Id="rId10" Type="http://schemas.openxmlformats.org/officeDocument/2006/relationships/image" Target="../media/image5.gif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25.gi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6.png"/><Relationship Id="rId9" Type="http://schemas.openxmlformats.org/officeDocument/2006/relationships/image" Target="../media/image8.gif"/><Relationship Id="rId10" Type="http://schemas.openxmlformats.org/officeDocument/2006/relationships/image" Target="../media/image37.gif"/><Relationship Id="rId11" Type="http://schemas.openxmlformats.org/officeDocument/2006/relationships/image" Target="../media/image37.gif"/><Relationship Id="rId12" Type="http://schemas.openxmlformats.org/officeDocument/2006/relationships/image" Target="../media/image37.gif"/><Relationship Id="rId13" Type="http://schemas.openxmlformats.org/officeDocument/2006/relationships/image" Target="../media/image37.gif"/><Relationship Id="rId14" Type="http://schemas.openxmlformats.org/officeDocument/2006/relationships/image" Target="../media/image37.gif"/><Relationship Id="rId15" Type="http://schemas.openxmlformats.org/officeDocument/2006/relationships/image" Target="../media/image37.gif"/><Relationship Id="rId16" Type="http://schemas.openxmlformats.org/officeDocument/2006/relationships/image" Target="../media/image38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755e46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4236600">
            <a:off x="6276960" y="3740040"/>
            <a:ext cx="3429000" cy="7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904760" cy="1514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81440" cy="311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340000" y="1052640"/>
            <a:ext cx="5759280" cy="519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4236600">
            <a:off x="-419040" y="4027320"/>
            <a:ext cx="3429000" cy="79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835280" y="69228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971640" y="981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932360" y="404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956720" y="5734080"/>
            <a:ext cx="828360" cy="82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885080" y="1773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50920" y="537372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692360" y="2924280"/>
            <a:ext cx="828720" cy="82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79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775560"/>
            <a:ext cx="9144000" cy="792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strips dir="lu"/>
    <p:sndAc>
      <p:stSnd>
        <p:snd r:embed="rId15" name="ave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9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6516720" y="907920"/>
            <a:ext cx="18288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68321" dir="20281825" blurRad="0" rotWithShape="0">
                    <a:srgbClr val="fa3912"/>
                  </a:outerShdw>
                </a:effectLst>
                <a:latin typeface="Arial Black"/>
              </a:rPr>
              <a:t>24. 12.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effectLst>
                <a:outerShdw dist="68321" dir="20281825" blurRad="0" rotWithShape="0">
                  <a:srgbClr val="fa3912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43640" y="4221000"/>
            <a:ext cx="2411280" cy="241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164360" y="4869000"/>
            <a:ext cx="828720" cy="82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50920" y="573408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50920" y="436572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476360" y="5516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835280" y="2565360"/>
            <a:ext cx="3848040" cy="278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619280" y="2205000"/>
            <a:ext cx="42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A když to vydržíš až do večera nepapat,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uvidíš zlaté prasátko ...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68360" y="4941720"/>
            <a:ext cx="3502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Monotype Corsiva"/>
              </a:rPr>
              <a:t>Krásný Štědrý den !!!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Monotype Corsiva"/>
              <a:ea typeface="Monotype Corsiv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179280" y="620640"/>
            <a:ext cx="1440000" cy="13906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4a4d"/>
            </a:gs>
            <a:gs pos="50000">
              <a:srgbClr val="fca2a8"/>
            </a:gs>
            <a:gs pos="100000">
              <a:srgbClr val="744a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581960" cy="565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549360"/>
            <a:ext cx="7632720" cy="1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7632720" cy="10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511960" y="3353760"/>
            <a:ext cx="5716440" cy="107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-2048400" y="3353400"/>
            <a:ext cx="5716440" cy="10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438960" y="0"/>
            <a:ext cx="2705040" cy="3067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 rot="16200000">
            <a:off x="144360" y="3971880"/>
            <a:ext cx="2705040" cy="3066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158760" y="0"/>
            <a:ext cx="1388880" cy="141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6443640" y="2133720"/>
            <a:ext cx="911160" cy="115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6480000" y="1989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7380360" y="4797360"/>
            <a:ext cx="147456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1187280" y="2637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1042920" y="32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147636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5"/>
          <a:stretch/>
        </p:blipFill>
        <p:spPr>
          <a:xfrm>
            <a:off x="971640" y="378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6"/>
          <a:stretch/>
        </p:blipFill>
        <p:spPr>
          <a:xfrm>
            <a:off x="1258920" y="407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1258920" y="1844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8"/>
          <a:stretch/>
        </p:blipFill>
        <p:spPr>
          <a:xfrm>
            <a:off x="1403280" y="465300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5648760" y="3378960"/>
            <a:ext cx="687384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-3389400" y="3359160"/>
            <a:ext cx="688176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50920" y="57340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755640" y="59500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539640" y="530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611280" y="494172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819440" cy="308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7324560" y="0"/>
            <a:ext cx="1819440" cy="3086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95640" y="-171360"/>
            <a:ext cx="4968720" cy="237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3276720" y="549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5003640" y="549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250920" y="549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8028000" y="692280"/>
            <a:ext cx="828720" cy="828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40000" y="4653000"/>
            <a:ext cx="6127560" cy="2348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bc7"/>
                </a:solidFill>
                <a:latin typeface="Arial Unicode MS"/>
              </a:rPr>
              <a:t>Večer plný překvapen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bc7"/>
                </a:solidFill>
                <a:latin typeface="Arial Unicode MS"/>
              </a:rPr>
              <a:t>pocit který jindy n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bc7"/>
                </a:solidFill>
                <a:latin typeface="Arial Unicode MS"/>
              </a:rPr>
              <a:t>Štěstí, pohodu a kl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bc7"/>
                </a:solidFill>
                <a:latin typeface="Arial Unicode MS"/>
              </a:rPr>
              <a:t>tak jak to má na Vánoce být ..</a:t>
            </a:r>
            <a:r>
              <a:rPr b="1" lang="en-US" sz="3200" spc="-1" strike="noStrike">
                <a:solidFill>
                  <a:srgbClr val="fa3912"/>
                </a:solidFill>
                <a:latin typeface="Arial Unicode MS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8"/>
          <a:stretch/>
        </p:blipFill>
        <p:spPr>
          <a:xfrm>
            <a:off x="7674120" y="4581360"/>
            <a:ext cx="1361880" cy="13622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a2a8"/>
            </a:gs>
            <a:gs pos="50000">
              <a:srgbClr val="ffff00"/>
            </a:gs>
            <a:gs pos="100000">
              <a:srgbClr val="fca2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35960" y="3860640"/>
            <a:ext cx="3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151240" cy="244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71640" y="5734080"/>
            <a:ext cx="3810240" cy="45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195640" y="2997360"/>
            <a:ext cx="5113080" cy="21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295880" cy="306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rot="5400000">
            <a:off x="632880" y="4451040"/>
            <a:ext cx="1533600" cy="280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 rot="5400000">
            <a:off x="6976440" y="4451040"/>
            <a:ext cx="1533600" cy="2800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7093080" y="189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790560" y="1844640"/>
            <a:ext cx="847800" cy="2352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7559640" y="1844640"/>
            <a:ext cx="847800" cy="2352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5580000" y="836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3419640" y="404640"/>
            <a:ext cx="828360" cy="828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1692360" y="2421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6767640" y="256536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2085840" cy="2857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427960" y="6491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3912"/>
                </a:solidFill>
                <a:latin typeface="Arial Unicode MS"/>
              </a:rPr>
              <a:t>Soň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rot="21340800">
            <a:off x="5796000" y="4076280"/>
            <a:ext cx="4295880" cy="278136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808080"/>
            </a:outerShdw>
          </a:effectLst>
        </p:spPr>
      </p:pic>
      <p:sp>
        <p:nvSpPr>
          <p:cNvPr id="122" name=""/>
          <p:cNvSpPr txBox="1"/>
          <p:nvPr/>
        </p:nvSpPr>
        <p:spPr>
          <a:xfrm>
            <a:off x="2268360" y="4724280"/>
            <a:ext cx="451512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0760" dir="0" blurRad="0" rotWithShape="0">
                    <a:srgbClr val="ff3300">
                      <a:alpha val="50000"/>
                    </a:srgbClr>
                  </a:outerShdw>
                </a:effectLst>
                <a:latin typeface="Arial Black"/>
              </a:rPr>
              <a:t>Andělsky krásné Váno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0760" dir="0" blurRad="0" rotWithShape="0">
                  <a:srgbClr val="ff33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0760" dir="0" blurRad="0" rotWithShape="0">
                    <a:srgbClr val="ff3300">
                      <a:alpha val="50000"/>
                    </a:srgbClr>
                  </a:outerShdw>
                </a:effectLst>
                <a:latin typeface="Arial Black"/>
              </a:rPr>
              <a:t>a čertovsky dobrý rok 20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0760" dir="0" blurRad="0" rotWithShape="0">
                  <a:srgbClr val="ff33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6443640" y="2852640"/>
            <a:ext cx="2119320" cy="3090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474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250920" y="620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179280" y="2060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1908000" y="1052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179280" y="3141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755640" y="141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>
            <a:off x="2124000" y="2421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>
            <a:off x="7238880" y="52293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4:24:27Z</dcterms:created>
  <dc:creator>Soňa</dc:creator>
  <dc:description/>
  <dc:language>en-US</dc:language>
  <cp:lastModifiedBy>Soňa</cp:lastModifiedBy>
  <dcterms:modified xsi:type="dcterms:W3CDTF">2012-01-15T14:28:21Z</dcterms:modified>
  <cp:revision>1</cp:revision>
  <dc:subject/>
  <dc:title>Snímek 1</dc:title>
</cp:coreProperties>
</file>