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bilev.wav" ContentType="audio/x-wav"/>
  <Override PartName="/ppt/media/image27.jpeg" ContentType="image/jpeg"/>
  <Override PartName="/ppt/media/image17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32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2.gif" ContentType="image/gif"/>
  <Override PartName="/ppt/media/image15.png" ContentType="image/png"/>
  <Override PartName="/ppt/media/image9.gif" ContentType="image/gif"/>
  <Override PartName="/ppt/media/image37.png" ContentType="image/png"/>
  <Override PartName="/ppt/media/image30.png" ContentType="image/png"/>
  <Override PartName="/ppt/media/image10.jpeg" ContentType="image/jpeg"/>
  <Override PartName="/ppt/media/image31.png" ContentType="image/png"/>
  <Override PartName="/ppt/media/image39.png" ContentType="image/png"/>
  <Override PartName="/ppt/media/image38.gif" ContentType="image/gif"/>
  <Override PartName="/ppt/media/image8.gif" ContentType="image/gif"/>
  <Override PartName="/ppt/media/image40.png" ContentType="image/png"/>
  <Override PartName="/ppt/media/image29.gif" ContentType="image/gif"/>
  <Override PartName="/ppt/media/image36.gif" ContentType="image/gif"/>
  <Override PartName="/ppt/media/image6.gif" ContentType="image/gif"/>
  <Override PartName="/ppt/media/image41.jpeg" ContentType="image/jpeg"/>
  <Override PartName="/ppt/media/image42.gif" ContentType="image/gif"/>
  <Override PartName="/ppt/media/image43.gif" ContentType="image/gif"/>
  <Override PartName="/ppt/media/image7.gif" ContentType="image/gif"/>
  <Override PartName="/ppt/media/image11.gif" ContentType="image/gif"/>
  <Override PartName="/ppt/media/image35.gif" ContentType="image/gif"/>
  <Override PartName="/ppt/media/image5.gif" ContentType="image/gif"/>
  <Override PartName="/ppt/media/image34.gif" ContentType="image/gif"/>
  <Override PartName="/ppt/media/image33.jpeg" ContentType="image/jpeg"/>
  <Override PartName="/ppt/media/image4.gif" ContentType="image/gif"/>
  <Override PartName="/ppt/media/image2.jpeg" ContentType="image/jpeg"/>
  <Override PartName="/ppt/media/image1.gif" ContentType="image/gif"/>
  <Override PartName="/ppt/media/image24.gif" ContentType="image/gif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C5E-9D47-46F5-B7AA-512E8EF6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28B-E9D8-4AB7-AC9A-B62C9C78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7B2-47C7-444A-B772-B5FCF7D9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729-4244-4CCC-9F16-34E40775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B17-CF04-48A0-BB3B-D8297C6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3BC-F0E6-4BB6-8CDE-057138E0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EDD-2FB6-4C68-8C6F-F5BBA6B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049-27AE-497A-82A5-CEFADA5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D0E-61D9-48B3-A448-9AC41C1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AB7-E047-4389-9830-715EF52A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8B5-CA23-4C1A-9080-6D99DD9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23-7A68-4608-B35A-B69787B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B180-B90F-45B2-A5FB-205D4FB7A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4.gif"/><Relationship Id="rId20" Type="http://schemas.openxmlformats.org/officeDocument/2006/relationships/image" Target="../media/image8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audio" Target="../media/bilev.wav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image" Target="../media/image9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0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22.png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9.gif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11.gif"/><Relationship Id="rId17" Type="http://schemas.openxmlformats.org/officeDocument/2006/relationships/image" Target="../media/image23.png"/><Relationship Id="rId18" Type="http://schemas.openxmlformats.org/officeDocument/2006/relationships/image" Target="../media/image11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37.png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38.gif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43.gif"/><Relationship Id="rId19" Type="http://schemas.openxmlformats.org/officeDocument/2006/relationships/image" Target="../media/image43.gi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17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42000"/>
            <a:ext cx="925200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38160"/>
            <a:ext cx="216000" cy="6896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64720" y="0"/>
            <a:ext cx="215640" cy="689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380360" y="40464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2771640" y="33336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9640" y="33336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-1905120" y="3716280"/>
            <a:ext cx="1905120" cy="28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6012000" y="2060640"/>
            <a:ext cx="3333600" cy="457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63640" y="549360"/>
            <a:ext cx="4029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vězdný pozdrav sněžných vloček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ěkné dárky pod stromeček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lid a radost na Vánoce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noho štěstí v novém roce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6000" y="1268280"/>
            <a:ext cx="4390920" cy="38894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28496" dir="17774481" blurRad="0" rotWithShape="0">
                    <a:srgbClr val="ff0000"/>
                  </a:outerShdw>
                </a:effectLst>
                <a:latin typeface="Arial"/>
              </a:rPr>
              <a:t>Hvězdný pozdrav sněžných vloček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28496" dir="17774481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28496" dir="17774481" blurRad="0" rotWithShape="0">
                    <a:srgbClr val="ff0000"/>
                  </a:outerShdw>
                </a:effectLst>
                <a:latin typeface="Arial"/>
              </a:rPr>
              <a:t>pěkné dárky pod stromeček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28496" dir="17774481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28496" dir="17774481" blurRad="0" rotWithShape="0">
                    <a:srgbClr val="ff0000"/>
                  </a:outerShdw>
                </a:effectLst>
                <a:latin typeface="Arial"/>
              </a:rPr>
              <a:t>Klid a radost na Vánoce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28496" dir="17774481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28496" dir="17774481" blurRad="0" rotWithShape="0">
                    <a:srgbClr val="ff0000"/>
                  </a:outerShdw>
                </a:effectLst>
                <a:latin typeface="Arial"/>
              </a:rPr>
              <a:t>mnoho štěstí v novém roce.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28496" dir="17774481" blurRad="0" rotWithShape="0">
                  <a:srgbClr val="ff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9"/>
          <a:stretch/>
        </p:blipFill>
        <p:spPr>
          <a:xfrm>
            <a:off x="5292720" y="33336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0"/>
          <a:stretch/>
        </p:blipFill>
        <p:spPr>
          <a:xfrm>
            <a:off x="5508720" y="5013360"/>
            <a:ext cx="2233440" cy="161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1"/>
          <a:stretch/>
        </p:blipFill>
        <p:spPr>
          <a:xfrm>
            <a:off x="6227640" y="1484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2"/>
          <a:stretch/>
        </p:blipFill>
        <p:spPr>
          <a:xfrm>
            <a:off x="5292720" y="3068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3"/>
          <a:stretch/>
        </p:blipFill>
        <p:spPr>
          <a:xfrm>
            <a:off x="250920" y="23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4"/>
          <a:stretch/>
        </p:blipFill>
        <p:spPr>
          <a:xfrm>
            <a:off x="7956720" y="1916280"/>
            <a:ext cx="828360" cy="82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5"/>
          <a:stretch/>
        </p:blipFill>
        <p:spPr>
          <a:xfrm>
            <a:off x="684360" y="537372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6"/>
          <a:stretch/>
        </p:blipFill>
        <p:spPr>
          <a:xfrm>
            <a:off x="2700360" y="4508640"/>
            <a:ext cx="828720" cy="828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newsflash/>
    <p:sndAc>
      <p:stSnd>
        <p:snd r:embed="rId27" name="bile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4722 L 0.60417 0.02616 E">
                                      <p:cBhvr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43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9712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920000" y="289080"/>
            <a:ext cx="900000" cy="270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47640" y="692280"/>
            <a:ext cx="6266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něhové vločky k zemi se snáší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ráz si s okny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pohrává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Frankenstein"/>
              </a:rPr>
              <a:t>V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ánoční čas nastáv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771640" y="4449600"/>
            <a:ext cx="2880000" cy="213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24360" y="5157720"/>
            <a:ext cx="1997280" cy="148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692360" y="386064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7380360" y="429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7236000" y="5229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8028000" y="501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6588000" y="40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7380360" y="23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8028000" y="5734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0920" y="4537080"/>
            <a:ext cx="122076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95280" y="573408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108000" cy="6931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36000" y="0"/>
            <a:ext cx="108000" cy="6931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742080"/>
            <a:ext cx="9144000" cy="108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3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300"/>
                            </p:stCondLst>
                            <p:childTnLst>
                              <p:par>
                                <p:cTn id="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1908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580000" y="3573360"/>
            <a:ext cx="1819440" cy="308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286680" y="3789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332000" y="1628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308720" y="4581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804000" y="0"/>
            <a:ext cx="2171880" cy="3152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236000" y="836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66764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810108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7885080" y="19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7956720" y="2421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826920" y="328464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68360" y="4221000"/>
            <a:ext cx="936720" cy="91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4067280" y="4005360"/>
            <a:ext cx="936360" cy="91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5651640" y="0"/>
            <a:ext cx="936360" cy="91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2987640" y="54936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8"/>
          <a:stretch/>
        </p:blipFill>
        <p:spPr>
          <a:xfrm>
            <a:off x="5076720" y="558972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9"/>
          <a:stretch/>
        </p:blipFill>
        <p:spPr>
          <a:xfrm>
            <a:off x="7812000" y="314172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0"/>
          <a:stretch/>
        </p:blipFill>
        <p:spPr>
          <a:xfrm>
            <a:off x="3419640" y="2565360"/>
            <a:ext cx="93636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1"/>
          <a:stretch/>
        </p:blipFill>
        <p:spPr>
          <a:xfrm>
            <a:off x="5364000" y="170028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2"/>
          <a:stretch/>
        </p:blipFill>
        <p:spPr>
          <a:xfrm>
            <a:off x="8028000" y="5938920"/>
            <a:ext cx="93672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3"/>
          <a:stretch/>
        </p:blipFill>
        <p:spPr>
          <a:xfrm>
            <a:off x="2340000" y="5938920"/>
            <a:ext cx="936720" cy="91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268360" y="189000"/>
            <a:ext cx="409608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Vánoce s vločkami sněhu,</a:t>
            </a:r>
            <a:endParaRPr b="1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28496" dir="17774481" blurRad="0" rotWithShape="0">
                  <a:srgbClr val="ff6600">
                    <a:alpha val="80000"/>
                  </a:srgbClr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srdíčku lásku a něhu.</a:t>
            </a:r>
            <a:endParaRPr b="1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28496" dir="17774481" blurRad="0" rotWithShape="0">
                  <a:srgbClr val="ff6600">
                    <a:alpha val="80000"/>
                  </a:srgbClr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  </a:t>
            </a: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Pod stromečkem ať se válí to,</a:t>
            </a:r>
            <a:endParaRPr b="1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28496" dir="17774481" blurRad="0" rotWithShape="0">
                  <a:srgbClr val="ff6600">
                    <a:alpha val="80000"/>
                  </a:srgbClr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   </a:t>
            </a:r>
            <a:r>
              <a:rPr b="1" lang="en-US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28496" dir="17774481" blurRad="0" rotWithShape="0">
                    <a:srgbClr val="ff6600">
                      <a:alpha val="80000"/>
                    </a:srgbClr>
                  </a:outerShdw>
                </a:effectLst>
                <a:latin typeface="Dotum"/>
              </a:rPr>
              <a:t>co jste si celý rok přáli...</a:t>
            </a:r>
            <a:endParaRPr b="1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28496" dir="17774481" blurRad="0" rotWithShape="0">
                  <a:srgbClr val="ff6600">
                    <a:alpha val="80000"/>
                  </a:srgbClr>
                </a:outerShdw>
              </a:effectLst>
              <a:latin typeface="Dotum"/>
              <a:ea typeface="Dotum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>
            <a:off x="395280" y="4653000"/>
            <a:ext cx="182736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ff99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220920" cy="489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295880" cy="278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851280" y="2565360"/>
            <a:ext cx="489744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1280" y="2565360"/>
            <a:ext cx="489744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4976640"/>
            <a:ext cx="489744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492280"/>
            <a:ext cx="108000" cy="266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04360" y="2492280"/>
            <a:ext cx="108000" cy="266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6954840" y="3219480"/>
            <a:ext cx="1362240" cy="150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761076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4427640" y="620640"/>
            <a:ext cx="4176720" cy="199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16720" y="2781360"/>
            <a:ext cx="2335680" cy="9471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ás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án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4067280" y="27082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6300720" y="2708280"/>
            <a:ext cx="2232000" cy="223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250920" y="2924280"/>
            <a:ext cx="1447560" cy="142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2700360" y="422100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8028000" y="551664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>
            <a:off x="0" y="4581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8"/>
          <a:stretch/>
        </p:blipFill>
        <p:spPr>
          <a:xfrm rot="10800000">
            <a:off x="0" y="652428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1258920" y="836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>
            <a:off x="2843280" y="4762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1666800" cy="2028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08000" y="1305000"/>
            <a:ext cx="6151680" cy="1557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bem letí Ježíšek, fouká mu pod kožíš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Veze plný pytel dárků, pro každého má svou várk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372360" y="4724280"/>
            <a:ext cx="790560" cy="93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138744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979640" y="3860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315280" y="692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395280" y="2276640"/>
            <a:ext cx="828720" cy="82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7596360" y="2637000"/>
            <a:ext cx="828360" cy="82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6588000" y="1341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-4932360" y="5121360"/>
            <a:ext cx="4751280" cy="1736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3132000" y="476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3708360" y="314172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 rot="681000">
            <a:off x="5714640" y="691920"/>
            <a:ext cx="3429000" cy="79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7601040" y="5057640"/>
            <a:ext cx="154296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heel spokes="8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0463 L 0.84236 0.01966 E">
                                      <p:cBhvr>
                                        <p:cTn id="210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80808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2400" cy="561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775280" cy="428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7775280" cy="428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 rot="16200000">
            <a:off x="-1946880" y="3107160"/>
            <a:ext cx="5545080" cy="42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 rot="5400000">
            <a:off x="5613480" y="3107520"/>
            <a:ext cx="5545080" cy="428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03680" y="614844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9560" y="5178600"/>
            <a:ext cx="483948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Krásné a pohodové Ván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0" y="134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89000" y="21272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15920" y="29192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115920" y="3711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79280" y="43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115920" y="5006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8648640" y="119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8648640" y="206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8648640" y="28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8648640" y="36385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8648640" y="443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8648640" y="5157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1835280" y="115920"/>
            <a:ext cx="5724360" cy="200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1584360" y="6381720"/>
            <a:ext cx="5724360" cy="200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45:20Z</dcterms:created>
  <dc:creator>Soňa</dc:creator>
  <dc:description/>
  <dc:language>en-US</dc:language>
  <cp:lastModifiedBy>Soňa</cp:lastModifiedBy>
  <dcterms:modified xsi:type="dcterms:W3CDTF">2012-01-15T14:59:28Z</dcterms:modified>
  <cp:revision>2</cp:revision>
  <dc:subject/>
  <dc:title>Snímek 1</dc:title>
</cp:coreProperties>
</file>