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4.gif" ContentType="image/gif"/>
  <Override PartName="/ppt/media/image33.jpeg" ContentType="image/jpeg"/>
  <Override PartName="/ppt/media/image34.gif" ContentType="image/gif"/>
  <Override PartName="/ppt/media/image26.jpeg" ContentType="image/jpeg"/>
  <Override PartName="/ppt/media/image25.gif" ContentType="image/gif"/>
  <Override PartName="/ppt/media/image23.gif" ContentType="image/gif"/>
  <Override PartName="/ppt/media/image16.png" ContentType="image/png"/>
  <Override PartName="/ppt/media/image21.png" ContentType="image/png"/>
  <Override PartName="/ppt/media/image8.png" ContentType="image/png"/>
  <Override PartName="/ppt/media/image28.gif" ContentType="image/gif"/>
  <Override PartName="/ppt/media/image6.gif" ContentType="image/gif"/>
  <Override PartName="/ppt/media/image29.gif" ContentType="image/gif"/>
  <Override PartName="/ppt/media/image5.gif" ContentType="image/gif"/>
  <Override PartName="/ppt/media/image7.jpeg" ContentType="image/jpeg"/>
  <Override PartName="/ppt/media/image11.png" ContentType="image/png"/>
  <Override PartName="/ppt/media/image9.gif" ContentType="image/gif"/>
  <Override PartName="/ppt/media/image30.jpeg" ContentType="image/jpeg"/>
  <Override PartName="/ppt/media/image31.png" ContentType="image/png"/>
  <Override PartName="/ppt/media/image3.gif" ContentType="image/gif"/>
  <Override PartName="/ppt/media/image32.jpeg" ContentType="image/jpeg"/>
  <Override PartName="/ppt/media/image36.png" ContentType="image/png"/>
  <Override PartName="/ppt/media/image37.gif" ContentType="image/gif"/>
  <Override PartName="/ppt/media/image2.jpeg" ContentType="image/jpeg"/>
  <Override PartName="/ppt/media/image15.gif" ContentType="image/gif"/>
  <Override PartName="/ppt/media/klavir.wav" ContentType="audio/x-wav"/>
  <Override PartName="/ppt/media/image12.png" ContentType="image/png"/>
  <Override PartName="/ppt/media/image35.jpeg" ContentType="image/jpeg"/>
  <Override PartName="/ppt/media/image1.jpeg" ContentType="image/jpeg"/>
  <Override PartName="/ppt/media/image10.png" ContentType="image/png"/>
  <Override PartName="/ppt/media/image14.png" ContentType="image/png"/>
  <Override PartName="/ppt/media/image17.gif" ContentType="image/gif"/>
  <Override PartName="/ppt/media/image22.png" ContentType="image/png"/>
  <Override PartName="/ppt/media/image18.gif" ContentType="image/gif"/>
  <Override PartName="/ppt/media/image20.gif" ContentType="image/gif"/>
  <Override PartName="/ppt/media/image13.png" ContentType="image/png"/>
  <Override PartName="/ppt/media/image19.gif" ContentType="image/gif"/>
  <Override PartName="/ppt/media/image2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E848-56A9-43CE-8BEB-48342C168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A9A3-AED1-47E9-BB82-A643F313A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C412-7336-4026-A390-8E7EBCB56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88BA-DCDF-4AFF-86AE-A44347C69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0AD1-8855-4239-9E76-9E1CAA185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92DE-9F4F-4D73-A7A3-E04796140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38CD-F06F-4B6D-8B4A-12A992C80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13EC-B866-42D2-97F5-27CD85BF5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7A2B-6613-4930-A9B5-B48FA9E40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0A6D-4501-4C36-A60E-3BF309A4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FB91-BE67-4531-A0E7-D1DB7ABA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7B40-BAF1-417D-8BCE-07CA4E98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F4EF7-1CC4-41A7-B4C4-1054FBC39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audio" Target="../media/klavir.wav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image" Target="../media/image16.png"/><Relationship Id="rId4" Type="http://schemas.openxmlformats.org/officeDocument/2006/relationships/image" Target="../media/image17.gif"/><Relationship Id="rId5" Type="http://schemas.openxmlformats.org/officeDocument/2006/relationships/image" Target="../media/image18.gif"/><Relationship Id="rId6" Type="http://schemas.openxmlformats.org/officeDocument/2006/relationships/image" Target="../media/image19.gif"/><Relationship Id="rId7" Type="http://schemas.openxmlformats.org/officeDocument/2006/relationships/image" Target="../media/image20.gif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gif"/><Relationship Id="rId3" Type="http://schemas.openxmlformats.org/officeDocument/2006/relationships/image" Target="../media/image24.png"/><Relationship Id="rId4" Type="http://schemas.openxmlformats.org/officeDocument/2006/relationships/image" Target="../media/image13.png"/><Relationship Id="rId5" Type="http://schemas.openxmlformats.org/officeDocument/2006/relationships/image" Target="../media/image25.gif"/><Relationship Id="rId6" Type="http://schemas.openxmlformats.org/officeDocument/2006/relationships/image" Target="../media/image26.jpeg"/><Relationship Id="rId7" Type="http://schemas.openxmlformats.org/officeDocument/2006/relationships/image" Target="../media/image26.jpeg"/><Relationship Id="rId8" Type="http://schemas.openxmlformats.org/officeDocument/2006/relationships/image" Target="../media/image27.png"/><Relationship Id="rId9" Type="http://schemas.openxmlformats.org/officeDocument/2006/relationships/image" Target="../media/image28.gif"/><Relationship Id="rId10" Type="http://schemas.openxmlformats.org/officeDocument/2006/relationships/image" Target="../media/image28.gif"/><Relationship Id="rId11" Type="http://schemas.openxmlformats.org/officeDocument/2006/relationships/image" Target="../media/image29.gif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3.jpeg"/><Relationship Id="rId6" Type="http://schemas.openxmlformats.org/officeDocument/2006/relationships/image" Target="../media/image34.gif"/><Relationship Id="rId7" Type="http://schemas.openxmlformats.org/officeDocument/2006/relationships/image" Target="../media/image35.jpeg"/><Relationship Id="rId8" Type="http://schemas.openxmlformats.org/officeDocument/2006/relationships/image" Target="../media/image35.jpeg"/><Relationship Id="rId9" Type="http://schemas.openxmlformats.org/officeDocument/2006/relationships/image" Target="../media/image35.jpeg"/><Relationship Id="rId10" Type="http://schemas.openxmlformats.org/officeDocument/2006/relationships/image" Target="../media/image35.jpeg"/><Relationship Id="rId1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549360"/>
            <a:ext cx="0" cy="5904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981000"/>
            <a:ext cx="8064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116000" y="1197000"/>
            <a:ext cx="6019920" cy="4076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26920" y="333360"/>
            <a:ext cx="0" cy="5904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4000" y="836640"/>
            <a:ext cx="79930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308720" y="4005360"/>
            <a:ext cx="1548000" cy="1946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1547640" y="189000"/>
            <a:ext cx="2867040" cy="390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4500720" y="189000"/>
            <a:ext cx="2867040" cy="390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7219800" y="1844640"/>
            <a:ext cx="1924200" cy="981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1979640" y="5445000"/>
            <a:ext cx="1380960" cy="1009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3635280" y="5589720"/>
            <a:ext cx="1381320" cy="1009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5364000" y="5589720"/>
            <a:ext cx="1381320" cy="10094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strips dir="lu"/>
    <p:sndAc>
      <p:stSnd>
        <p:snd r:embed="rId10" name="klavi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409760" y="333360"/>
            <a:ext cx="7734240" cy="3352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 rot="679800">
            <a:off x="324000" y="3789360"/>
            <a:ext cx="3619440" cy="1743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4356000" y="3645000"/>
            <a:ext cx="3672000" cy="1782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3995640" y="5734080"/>
            <a:ext cx="4219560" cy="3906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 rot="21269400">
            <a:off x="0" y="-171000"/>
            <a:ext cx="3809880" cy="3240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7">
            <a:lum bright="-6000"/>
          </a:blip>
          <a:stretch/>
        </p:blipFill>
        <p:spPr>
          <a:xfrm>
            <a:off x="611280" y="5805360"/>
            <a:ext cx="1904760" cy="7239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edg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55640" y="333360"/>
            <a:ext cx="3809880" cy="1150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7236000" y="3573360"/>
            <a:ext cx="1584000" cy="2664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395280" y="1773360"/>
            <a:ext cx="3600360" cy="26575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560" y="240840"/>
            <a:ext cx="5267160" cy="118116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txBody>
          <a:bodyPr lIns="109080" rIns="10908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6443640" y="189000"/>
            <a:ext cx="1905120" cy="1647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95280" y="1413000"/>
            <a:ext cx="511344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260280"/>
            <a:ext cx="518472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4643280" y="1700280"/>
            <a:ext cx="2619360" cy="2619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3780000" y="5734080"/>
            <a:ext cx="2714400" cy="9716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453760" y="4486320"/>
            <a:ext cx="434412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cc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Ať Ti velikonoční zajíč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přinese košík vajíček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8"/>
          <a:stretch/>
        </p:blipFill>
        <p:spPr>
          <a:xfrm>
            <a:off x="0" y="4653000"/>
            <a:ext cx="2521080" cy="191772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wheel spokes="3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0"/>
                            </p:stCondLst>
                            <p:childTnLst>
                              <p:par>
                                <p:cTn id="9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8000"/>
                            </p:stCondLst>
                            <p:childTnLst>
                              <p:par>
                                <p:cTn id="1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50920" y="692280"/>
            <a:ext cx="2666880" cy="2160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 rot="20175000">
            <a:off x="-396360" y="3284280"/>
            <a:ext cx="4321080" cy="2773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1547640" y="5157720"/>
            <a:ext cx="2374920" cy="10112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143600" y="620640"/>
            <a:ext cx="4804560" cy="1800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cc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Se sluníčkem najdeme sílu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do žil vlijeme novou míz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Pomlázka a krasl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k svátkům patří nejvíce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5516640" y="4076640"/>
            <a:ext cx="3627360" cy="2349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851280" y="549360"/>
            <a:ext cx="5113440" cy="71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51280" y="2492280"/>
            <a:ext cx="5113440" cy="716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8"/>
          <a:stretch/>
        </p:blipFill>
        <p:spPr>
          <a:xfrm>
            <a:off x="1763640" y="5661000"/>
            <a:ext cx="1609920" cy="7142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0"/>
            <a:ext cx="9144000" cy="18900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1"/>
          <a:stretch/>
        </p:blipFill>
        <p:spPr>
          <a:xfrm>
            <a:off x="3924360" y="2852640"/>
            <a:ext cx="1204920" cy="122580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checker dir="horz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6000"/>
                            </p:stCondLst>
                            <p:childTnLst>
                              <p:par>
                                <p:cTn id="15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8000"/>
                            </p:stCondLst>
                            <p:childTnLst>
                              <p:par>
                                <p:cTn id="162" nodeType="afterEffect" fill="hold" presetClass="entr" presetID="35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-181080" y="0"/>
            <a:ext cx="7601040" cy="53532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5076720" y="3429000"/>
            <a:ext cx="2847960" cy="3097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56400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kaDor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659640" y="1628640"/>
            <a:ext cx="2057400" cy="130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Frankenstein"/>
              </a:rPr>
              <a:t>J a r 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Frankenstein"/>
              <a:ea typeface="Frankenstei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7451640" y="333360"/>
            <a:ext cx="971640" cy="971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68360" y="5300640"/>
            <a:ext cx="4032360" cy="123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6600cc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17819" dir="18900000" blurRad="0" rotWithShape="0">
                    <a:srgbClr val="ff00ff"/>
                  </a:outerShdw>
                </a:effectLst>
                <a:latin typeface="akaDora"/>
              </a:rPr>
              <a:t>Hody, hody, dopravody,</a:t>
            </a:r>
            <a:endParaRPr b="0" lang="en-US" sz="1800" spc="1" strike="noStrike">
              <a:ln w="6480">
                <a:solidFill>
                  <a:srgbClr val="6600cc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17819" dir="18900000" blurRad="0" rotWithShape="0">
                  <a:srgbClr val="ff00ff"/>
                </a:outerShdw>
              </a:effectLst>
              <a:latin typeface="akaDora"/>
              <a:ea typeface="akaDo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6600cc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17819" dir="18900000" blurRad="0" rotWithShape="0">
                    <a:srgbClr val="ff00ff"/>
                  </a:outerShdw>
                </a:effectLst>
                <a:latin typeface="akaDora"/>
              </a:rPr>
              <a:t>jaro už je tady...</a:t>
            </a:r>
            <a:endParaRPr b="0" lang="en-US" sz="1800" spc="1" strike="noStrike">
              <a:ln w="6480">
                <a:solidFill>
                  <a:srgbClr val="6600cc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17819" dir="18900000" blurRad="0" rotWithShape="0">
                  <a:srgbClr val="ff00ff"/>
                </a:outerShdw>
              </a:effectLst>
              <a:latin typeface="akaDora"/>
              <a:ea typeface="akaDora"/>
            </a:endParaRPr>
          </a:p>
        </p:txBody>
      </p:sp>
    </p:spTree>
  </p:cSld>
  <p:transition spd="slow" advTm="10000">
    <p:circl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26920" y="549360"/>
            <a:ext cx="7561440" cy="55562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 rot="20098200">
            <a:off x="2900160" y="1590480"/>
            <a:ext cx="4465440" cy="124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Krásné   jarní   dn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8101080" y="6308640"/>
            <a:ext cx="619200" cy="1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oňa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0000">
    <p:newsflash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8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2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6T15:10:09Z</dcterms:created>
  <dc:creator>Soňa</dc:creator>
  <dc:description/>
  <dc:language>en-US</dc:language>
  <cp:lastModifiedBy>Soňa</cp:lastModifiedBy>
  <dcterms:modified xsi:type="dcterms:W3CDTF">2012-03-06T16:29:13Z</dcterms:modified>
  <cp:revision>2</cp:revision>
  <dc:subject/>
  <dc:title>Snímek 1</dc:title>
</cp:coreProperties>
</file>