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5.jpeg" ContentType="image/jpeg"/>
  <Override PartName="/ppt/media/image11.gif" ContentType="image/gif"/>
  <Override PartName="/ppt/media/image6.gif" ContentType="image/gif"/>
  <Override PartName="/ppt/media/image4.png" ContentType="image/png"/>
  <Override PartName="/ppt/media/image1.gif" ContentType="image/gif"/>
  <Override PartName="/ppt/media/sound001.wav" ContentType="audio/x-wav"/>
  <Override PartName="/ppt/media/image22.gif" ContentType="image/gif"/>
  <Override PartName="/ppt/media/image20.png" ContentType="image/png"/>
  <Override PartName="/ppt/media/image3.png" ContentType="image/png"/>
  <Override PartName="/ppt/media/image19.jpeg" ContentType="image/jpeg"/>
  <Override PartName="/ppt/media/image10.png" ContentType="image/png"/>
  <Override PartName="/ppt/media/image2.gif" ContentType="image/gif"/>
  <Override PartName="/ppt/media/image23.png" ContentType="image/png"/>
  <Override PartName="/ppt/media/image18.gif" ContentType="image/gif"/>
  <Override PartName="/ppt/media/image17.png" ContentType="image/png"/>
  <Override PartName="/ppt/media/image13.gif" ContentType="image/gif"/>
  <Override PartName="/ppt/media/image21.png" ContentType="image/png"/>
  <Override PartName="/ppt/media/image16.gif" ContentType="image/gif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3FA-7414-49AE-AF7F-72256211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A2F2-0A80-4B34-8C6E-03F26F33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58D-6DC3-4D13-A08A-CF0FFDF6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BFA-CAB0-467A-AE1C-3743DEB1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C77-38C5-40E2-8DE3-B7CE0DF2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8FB-7172-44D9-BA28-C661F33B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1140-7CFC-4A1C-A399-4BAE295C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D78-7D06-4ADC-88BA-310FEFFC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B82-317C-440C-92F2-4DC50ED6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EBB-1BF6-46C8-A808-322FB5C2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763-99BE-45ED-B2BE-442C65C5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D66-D2E6-4DE5-B420-A28BD57F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AE6E-06F7-4F13-9426-C136E63D2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audio" Target="../media/sound001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10.png"/><Relationship Id="rId14" Type="http://schemas.openxmlformats.org/officeDocument/2006/relationships/image" Target="../media/image11.gif"/><Relationship Id="rId15" Type="http://schemas.openxmlformats.org/officeDocument/2006/relationships/image" Target="../media/image12.gif"/><Relationship Id="rId16" Type="http://schemas.openxmlformats.org/officeDocument/2006/relationships/image" Target="../media/image13.gi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3564000" y="4941720"/>
            <a:ext cx="439272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Hezké Velikonoc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plné pohody a sluníčk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42" name="Picture 8" descr="pas2"/>
          <p:cNvPicPr/>
          <p:nvPr/>
        </p:nvPicPr>
        <p:blipFill>
          <a:blip r:embed="rId5"/>
          <a:stretch/>
        </p:blipFill>
        <p:spPr>
          <a:xfrm>
            <a:off x="0" y="0"/>
            <a:ext cx="27716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jaja"/>
          <p:cNvPicPr/>
          <p:nvPr/>
        </p:nvPicPr>
        <p:blipFill>
          <a:blip r:embed="rId6"/>
          <a:stretch/>
        </p:blipFill>
        <p:spPr>
          <a:xfrm rot="11920200">
            <a:off x="2771280" y="259920"/>
            <a:ext cx="2916360" cy="221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small_Kuřátka2"/>
          <p:cNvPicPr/>
          <p:nvPr/>
        </p:nvPicPr>
        <p:blipFill>
          <a:blip r:embed="rId7"/>
          <a:stretch/>
        </p:blipFill>
        <p:spPr>
          <a:xfrm>
            <a:off x="4140360" y="404640"/>
            <a:ext cx="4649760" cy="5396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horz"/>
    <p:sndAc>
      <p:stSnd>
        <p:snd r:embed="rId8" name="sound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krasne1"/>
          <p:cNvPicPr/>
          <p:nvPr/>
        </p:nvPicPr>
        <p:blipFill>
          <a:blip r:embed="rId2"/>
          <a:stretch/>
        </p:blipFill>
        <p:spPr>
          <a:xfrm>
            <a:off x="2268360" y="260280"/>
            <a:ext cx="4392720" cy="865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o35"/>
          <p:cNvPicPr/>
          <p:nvPr/>
        </p:nvPicPr>
        <p:blipFill>
          <a:blip r:embed="rId3"/>
          <a:stretch/>
        </p:blipFill>
        <p:spPr>
          <a:xfrm>
            <a:off x="6804000" y="4005360"/>
            <a:ext cx="1905120" cy="262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o59"/>
          <p:cNvPicPr/>
          <p:nvPr/>
        </p:nvPicPr>
        <p:blipFill>
          <a:blip r:embed="rId4"/>
          <a:stretch/>
        </p:blipFill>
        <p:spPr>
          <a:xfrm>
            <a:off x="395280" y="1341360"/>
            <a:ext cx="1905120" cy="2409840"/>
          </a:xfrm>
          <a:prstGeom prst="rect">
            <a:avLst/>
          </a:prstGeom>
          <a:ln w="0">
            <a:noFill/>
          </a:ln>
        </p:spPr>
      </p:pic>
      <p:sp>
        <p:nvSpPr>
          <p:cNvPr id="48" name="WordArt 8"/>
          <p:cNvSpPr txBox="1"/>
          <p:nvPr/>
        </p:nvSpPr>
        <p:spPr>
          <a:xfrm rot="21238200">
            <a:off x="2916000" y="1484280"/>
            <a:ext cx="5256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66ffcc"/>
                  </a:outerShdw>
                </a:effectLst>
                <a:latin typeface="Times New Roman"/>
              </a:rPr>
              <a:t>Běží malý zajíček,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66ffcc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66ffcc"/>
                  </a:outerShdw>
                </a:effectLst>
                <a:latin typeface="Times New Roman"/>
              </a:rPr>
              <a:t>v tlapičce má košíček,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66ffcc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66ffcc"/>
                  </a:outerShdw>
                </a:effectLst>
                <a:latin typeface="Times New Roman"/>
              </a:rPr>
              <a:t>v něm barevná vajíčk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66ffcc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66ffcc"/>
                  </a:outerShdw>
                </a:effectLst>
                <a:latin typeface="Times New Roman"/>
              </a:rPr>
              <a:t>co mu dala slepička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66ffcc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Picture 9" descr="kyt85v"/>
          <p:cNvPicPr/>
          <p:nvPr/>
        </p:nvPicPr>
        <p:blipFill>
          <a:blip r:embed="rId13"/>
          <a:stretch/>
        </p:blipFill>
        <p:spPr>
          <a:xfrm>
            <a:off x="468360" y="4221000"/>
            <a:ext cx="1800000" cy="2349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o5"/>
          <p:cNvPicPr/>
          <p:nvPr/>
        </p:nvPicPr>
        <p:blipFill>
          <a:blip r:embed="rId14"/>
          <a:stretch/>
        </p:blipFill>
        <p:spPr>
          <a:xfrm rot="20983800">
            <a:off x="2627280" y="4508280"/>
            <a:ext cx="3619440" cy="17427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3"/>
          <p:cNvSpPr/>
          <p:nvPr/>
        </p:nvSpPr>
        <p:spPr>
          <a:xfrm>
            <a:off x="1908000" y="1052640"/>
            <a:ext cx="5256360" cy="144360"/>
          </a:xfrm>
          <a:custGeom>
            <a:avLst/>
            <a:gdLst>
              <a:gd name="textAreaLeft" fmla="*/ 23760 w 5256360"/>
              <a:gd name="textAreaRight" fmla="*/ 5280480 w 5256360"/>
              <a:gd name="textAreaTop" fmla="*/ 18720 h 144360"/>
              <a:gd name="textAreaBottom" fmla="*/ 125640 h 144360"/>
            </a:gdLst>
            <a:ahLst/>
            <a:rect l="textAreaLeft" t="textAreaTop" r="textAreaRight" b="textAreaBottom"/>
            <a:pathLst>
              <a:path w="21600" h="21600">
                <a:moveTo>
                  <a:pt x="98" y="1400"/>
                </a:moveTo>
                <a:cubicBezTo>
                  <a:pt x="7249" y="-3560"/>
                  <a:pt x="14449" y="6360"/>
                  <a:pt x="21600" y="1400"/>
                </a:cubicBezTo>
                <a:lnTo>
                  <a:pt x="21502" y="20200"/>
                </a:lnTo>
                <a:cubicBezTo>
                  <a:pt x="14351" y="25160"/>
                  <a:pt x="7151" y="15240"/>
                  <a:pt x="0" y="20200"/>
                </a:cubicBezTo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69"/>
          <p:cNvPicPr/>
          <p:nvPr/>
        </p:nvPicPr>
        <p:blipFill>
          <a:blip r:embed="rId16"/>
          <a:stretch/>
        </p:blipFill>
        <p:spPr>
          <a:xfrm>
            <a:off x="7956720" y="0"/>
            <a:ext cx="171432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o23"/>
          <p:cNvPicPr/>
          <p:nvPr/>
        </p:nvPicPr>
        <p:blipFill>
          <a:blip r:embed="rId2"/>
          <a:stretch/>
        </p:blipFill>
        <p:spPr>
          <a:xfrm>
            <a:off x="250920" y="4653000"/>
            <a:ext cx="360036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o2"/>
          <p:cNvPicPr/>
          <p:nvPr/>
        </p:nvPicPr>
        <p:blipFill>
          <a:blip r:embed="rId3"/>
          <a:stretch/>
        </p:blipFill>
        <p:spPr>
          <a:xfrm>
            <a:off x="5867280" y="0"/>
            <a:ext cx="3457800" cy="2739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 rot="20731200">
            <a:off x="395280" y="980640"/>
            <a:ext cx="59040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</a:rPr>
              <a:t>Na zahradě všechno kvete,</a:t>
            </a:r>
            <a:endParaRPr b="0" lang="en-US" sz="20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skřivánek se noty plete.</a:t>
            </a:r>
            <a:endParaRPr b="0" lang="en-US" sz="20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Jaro už je zase zpátky</a:t>
            </a:r>
            <a:endParaRPr b="0" lang="en-US" sz="20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a my přejem hezké svátky...</a:t>
            </a:r>
            <a:endParaRPr b="0" lang="en-US" sz="20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 rot="20530200">
            <a:off x="6156360" y="4723920"/>
            <a:ext cx="2531880" cy="1505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 rot="1215000">
            <a:off x="6156360" y="3428640"/>
            <a:ext cx="2531880" cy="1504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664000" cy="6597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621480" y="-12600"/>
            <a:ext cx="2166840" cy="687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124000" y="3522600"/>
            <a:ext cx="4734000" cy="314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ak tu máme zas</a:t>
            </a:r>
            <a:endParaRPr b="1" lang="en-US" sz="20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elikonoční čas.</a:t>
            </a:r>
            <a:endParaRPr b="1" lang="en-US" sz="20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řejeme Vám klidné svátky,</a:t>
            </a:r>
            <a:endParaRPr b="1" lang="en-US" sz="20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ť nemáte žádné hádky...</a:t>
            </a:r>
            <a:endParaRPr b="1" lang="en-US" sz="20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ransition spd="slow" advTm="10000">
    <p:strips dir="r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0"/>
          <p:cNvSpPr/>
          <p:nvPr/>
        </p:nvSpPr>
        <p:spPr>
          <a:xfrm>
            <a:off x="0" y="0"/>
            <a:ext cx="9144000" cy="15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WordArt 11" descr=""/>
          <p:cNvPicPr/>
          <p:nvPr/>
        </p:nvPicPr>
        <p:blipFill>
          <a:blip r:embed="rId3"/>
          <a:stretch/>
        </p:blipFill>
        <p:spPr>
          <a:xfrm>
            <a:off x="628560" y="4133880"/>
            <a:ext cx="7863120" cy="24429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2"/>
          <p:cNvSpPr/>
          <p:nvPr/>
        </p:nvSpPr>
        <p:spPr>
          <a:xfrm>
            <a:off x="0" y="6707160"/>
            <a:ext cx="9144000" cy="15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8369280" y="642780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ň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newsflash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6:57:14Z</dcterms:created>
  <dc:creator>Soňa</dc:creator>
  <dc:description/>
  <dc:language>en-US</dc:language>
  <cp:lastModifiedBy>Soňa</cp:lastModifiedBy>
  <dcterms:modified xsi:type="dcterms:W3CDTF">2012-03-07T17:20:38Z</dcterms:modified>
  <cp:revision>2</cp:revision>
  <dc:subject/>
  <dc:title>Snímek 1</dc:title>
</cp:coreProperties>
</file>