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png" ContentType="image/png"/>
  <Override PartName="/ppt/media/image9.jpeg" ContentType="image/jpeg"/>
  <Override PartName="/ppt/media/image7.png" ContentType="image/png"/>
  <Override PartName="/ppt/media/image4.gif" ContentType="image/gif"/>
  <Override PartName="/ppt/media/image22.jpeg" ContentType="image/jpeg"/>
  <Override PartName="/ppt/media/image8.png" ContentType="image/png"/>
  <Override PartName="/ppt/media/image5.gif" ContentType="image/gif"/>
  <Override PartName="/ppt/media/image10.gif" ContentType="image/gif"/>
  <Override PartName="/ppt/media/image13.png" ContentType="image/png"/>
  <Override PartName="/ppt/media/sound001%20(3).wav" ContentType="audio/x-wav"/>
  <Override PartName="/ppt/media/image11.png" ContentType="image/png"/>
  <Override PartName="/ppt/media/image20.jpeg" ContentType="image/jpeg"/>
  <Override PartName="/ppt/media/image21.gif" ContentType="image/gif"/>
  <Override PartName="/ppt/media/image19.gif" ContentType="image/gif"/>
  <Override PartName="/ppt/media/image6.png" ContentType="image/png"/>
  <Override PartName="/ppt/media/image23.png" ContentType="image/png"/>
  <Override PartName="/ppt/media/image18.gif" ContentType="image/gif"/>
  <Override PartName="/ppt/media/image17.gif" ContentType="image/gif"/>
  <Override PartName="/ppt/media/image16.gif" ContentType="image/gif"/>
  <Override PartName="/ppt/media/image14.png" ContentType="image/png"/>
  <Override PartName="/ppt/media/image1.gif" ContentType="image/gif"/>
  <Override PartName="/ppt/media/image24.gif" ContentType="image/gif"/>
  <Override PartName="/ppt/media/image2.gif" ContentType="image/gif"/>
  <Override PartName="/ppt/media/image2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A4EE-8D7C-4124-89EE-181814831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1119-0932-4B66-84B2-FBBCA18D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3652-7D26-458D-A4DC-A36B4DAF0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6302-DFC0-450B-8A4E-1D495FBC2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1C8B-ACA2-4FAF-B60E-5E4C8509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6E20-BC9F-4059-9099-7893C73F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6D47-F4D0-4246-BE2F-C004A964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F233-45CB-421E-8E94-CD7EA767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C6C8-7E36-4063-AD06-17C73016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98EA-3F34-444A-B61D-4AA59B76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B580-4F68-454C-873A-8AAB16E0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28D3-5DB5-426B-89D2-45BEECEC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7450-BE7E-4099-A037-83EFFB901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audio" Target="../media/sound001%20(3)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1.png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16.gif"/><Relationship Id="rId20" Type="http://schemas.openxmlformats.org/officeDocument/2006/relationships/image" Target="../media/image17.gif"/><Relationship Id="rId21" Type="http://schemas.openxmlformats.org/officeDocument/2006/relationships/image" Target="../media/image18.gif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4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373000">
            <a:off x="1116000" y="2923920"/>
            <a:ext cx="6985080" cy="26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kaDora"/>
              </a:rPr>
              <a:t>Hody, hody, doprovody,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kaDora"/>
              </a:rPr>
              <a:t>jaro už je vskutku tady...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kaDora"/>
              <a:ea typeface="akaDora"/>
            </a:endParaRPr>
          </a:p>
        </p:txBody>
      </p:sp>
    </p:spTree>
  </p:cSld>
  <p:transition spd="slow" advTm="10000">
    <p:checker dir="horz"/>
    <p:sndAc>
      <p:stSnd>
        <p:snd r:embed="rId6" name="sound001%20(3)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20000" y="3933720"/>
            <a:ext cx="1904760" cy="2629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132000" y="4724280"/>
            <a:ext cx="3333960" cy="1905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 rot="17361600">
            <a:off x="-1473840" y="1265760"/>
            <a:ext cx="5616720" cy="360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250920" y="4005360"/>
            <a:ext cx="1971720" cy="2314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 rot="303000">
            <a:off x="3276720" y="0"/>
            <a:ext cx="5688000" cy="2349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692360" y="692280"/>
            <a:ext cx="604980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993366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Ať Ti velikonoční zajíček</a:t>
            </a:r>
            <a:endParaRPr b="1" i="1" lang="en-US" sz="1800" spc="1" strike="noStrike">
              <a:ln w="15840">
                <a:solidFill>
                  <a:srgbClr val="993366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993366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přinese košík vajíček.</a:t>
            </a:r>
            <a:endParaRPr b="1" i="1" lang="en-US" sz="1800" spc="1" strike="noStrike">
              <a:ln w="15840">
                <a:solidFill>
                  <a:srgbClr val="993366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993366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Taky trochu našleháno,</a:t>
            </a:r>
            <a:endParaRPr b="1" i="1" lang="en-US" sz="1800" spc="1" strike="noStrike">
              <a:ln w="15840">
                <a:solidFill>
                  <a:srgbClr val="993366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993366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ať jsi čilá každé ráno...</a:t>
            </a:r>
            <a:endParaRPr b="1" i="1" lang="en-US" sz="1800" spc="1" strike="noStrike">
              <a:ln w="15840">
                <a:solidFill>
                  <a:srgbClr val="993366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10000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 rot="20974200">
            <a:off x="539280" y="2924280"/>
            <a:ext cx="8064720" cy="300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blipFill rotWithShape="0">
                  <a:blip r:embed="rId2">
                    <a:alphaModFix amt="50000"/>
                  </a:blip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ff0066"/>
                  </a:outerShdw>
                </a:effectLst>
                <a:latin typeface="Arial Black"/>
              </a:rPr>
              <a:t>Krásný velikonoční čas...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blipFill rotWithShape="0">
                <a:blip r:embed="rId3">
                  <a:alphaModFix amt="50000"/>
                </a:blip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ff006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 rot="1845000">
            <a:off x="0" y="620640"/>
            <a:ext cx="2352600" cy="1542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419640" y="0"/>
            <a:ext cx="2619360" cy="2619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Bar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ffcc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625920"/>
            <a:ext cx="4319640" cy="3232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3780000" y="836640"/>
            <a:ext cx="504000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blipFill rotWithShape="0">
                  <a:blip r:embed="rId2">
                    <a:alphaModFix amt="50000"/>
                  </a:blip>
                  <a:srcRect/>
                  <a:tile tx="0" ty="0" sx="100000" sy="100000" algn="ctr"/>
                </a:blipFill>
                <a:latin typeface="Monotype Corsiva"/>
              </a:rPr>
              <a:t>Šel zajíček brázdou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blipFill rotWithShape="0">
                <a:blip r:embed="rId3">
                  <a:alphaModFix amt="50000"/>
                </a:blip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blipFill rotWithShape="0">
                  <a:blip r:embed="rId4">
                    <a:alphaModFix amt="50000"/>
                  </a:blip>
                  <a:srcRect/>
                  <a:tile tx="0" ty="0" sx="100000" sy="100000" algn="ctr"/>
                </a:blipFill>
                <a:latin typeface="Monotype Corsiva"/>
              </a:rPr>
              <a:t>měl kapsičku prázdnou.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blipFill rotWithShape="0">
                <a:blip r:embed="rId5">
                  <a:alphaModFix amt="50000"/>
                </a:blip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blipFill rotWithShape="0">
                  <a:blip r:embed="rId6">
                    <a:alphaModFix amt="50000"/>
                  </a:blip>
                  <a:srcRect/>
                  <a:tile tx="0" ty="0" sx="100000" sy="100000" algn="ctr"/>
                </a:blipFill>
                <a:latin typeface="Monotype Corsiva"/>
              </a:rPr>
              <a:t>Potkala ho slepička,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blipFill rotWithShape="0">
                <a:blip r:embed="rId7">
                  <a:alphaModFix amt="50000"/>
                </a:blip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blipFill rotWithShape="0">
                  <a:blip r:embed="rId8">
                    <a:alphaModFix amt="50000"/>
                  </a:blip>
                  <a:srcRect/>
                  <a:tile tx="0" ty="0" sx="100000" sy="100000" algn="ctr"/>
                </a:blipFill>
                <a:latin typeface="Monotype Corsiva"/>
              </a:rPr>
              <a:t>dala mu tři vajíčka.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blipFill rotWithShape="0">
                <a:blip r:embed="rId9">
                  <a:alphaModFix amt="50000"/>
                </a:blip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blipFill rotWithShape="0">
                  <a:blip r:embed="rId10">
                    <a:alphaModFix amt="50000"/>
                  </a:blip>
                  <a:srcRect/>
                  <a:tile tx="0" ty="0" sx="100000" sy="100000" algn="ctr"/>
                </a:blipFill>
                <a:latin typeface="Monotype Corsiva"/>
              </a:rPr>
              <a:t>Zajda rychle nelenil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blipFill rotWithShape="0">
                <a:blip r:embed="rId11">
                  <a:alphaModFix amt="50000"/>
                </a:blip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blipFill rotWithShape="0">
                  <a:blip r:embed="rId12">
                    <a:alphaModFix amt="50000"/>
                  </a:blip>
                  <a:srcRect/>
                  <a:tile tx="0" ty="0" sx="100000" sy="100000" algn="ctr"/>
                </a:blipFill>
                <a:latin typeface="Monotype Corsiva"/>
              </a:rPr>
              <a:t>a vajíčka nabarvil.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blipFill rotWithShape="0">
                <a:blip r:embed="rId13">
                  <a:alphaModFix amt="50000"/>
                </a:blip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blipFill rotWithShape="0">
                  <a:blip r:embed="rId14">
                    <a:alphaModFix amt="50000"/>
                  </a:blip>
                  <a:srcRect/>
                  <a:tile tx="0" ty="0" sx="100000" sy="100000" algn="ctr"/>
                </a:blipFill>
                <a:latin typeface="Monotype Corsiva"/>
              </a:rPr>
              <a:t>Barvil je až do rána,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blipFill rotWithShape="0">
                <a:blip r:embed="rId15">
                  <a:alphaModFix amt="50000"/>
                </a:blip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blipFill rotWithShape="0">
                  <a:blip r:embed="rId16">
                    <a:alphaModFix amt="50000"/>
                  </a:blip>
                  <a:srcRect/>
                  <a:tile tx="0" ty="0" sx="100000" sy="100000" algn="ctr"/>
                </a:blipFill>
                <a:latin typeface="Monotype Corsiva"/>
              </a:rPr>
              <a:t>dnes je bude rozdávat...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blipFill rotWithShape="0">
                <a:blip r:embed="rId17">
                  <a:alphaModFix amt="50000"/>
                </a:blip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8"/>
          <a:stretch/>
        </p:blipFill>
        <p:spPr>
          <a:xfrm>
            <a:off x="6443640" y="5445000"/>
            <a:ext cx="2265480" cy="941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5400000">
            <a:off x="5892120" y="-2451960"/>
            <a:ext cx="457200" cy="5688000"/>
          </a:xfrm>
          <a:prstGeom prst="flowChartCollate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0"/>
          <a:stretch/>
        </p:blipFill>
        <p:spPr>
          <a:xfrm>
            <a:off x="611280" y="620640"/>
            <a:ext cx="2333520" cy="2952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1"/>
          <a:stretch/>
        </p:blipFill>
        <p:spPr>
          <a:xfrm>
            <a:off x="4284720" y="5006880"/>
            <a:ext cx="1838160" cy="15908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 rot="20568000">
            <a:off x="106200" y="691920"/>
            <a:ext cx="42498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Běží malý zajíček,</a:t>
            </a:r>
            <a:endParaRPr b="0" i="1" lang="en-US" sz="1800" spc="1" strike="noStrike">
              <a:ln w="19080">
                <a:solidFill>
                  <a:srgbClr val="80008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v tlapičce má košíček,</a:t>
            </a:r>
            <a:endParaRPr b="0" i="1" lang="en-US" sz="1800" spc="1" strike="noStrike">
              <a:ln w="19080">
                <a:solidFill>
                  <a:srgbClr val="80008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v něm barevná vajíčka,</a:t>
            </a:r>
            <a:endParaRPr b="0" i="1" lang="en-US" sz="1800" spc="1" strike="noStrike">
              <a:ln w="19080">
                <a:solidFill>
                  <a:srgbClr val="80008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co mu dala slepička...</a:t>
            </a:r>
            <a:endParaRPr b="0" i="1" lang="en-US" sz="1800" spc="1" strike="noStrike">
              <a:ln w="19080">
                <a:solidFill>
                  <a:srgbClr val="80008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7164360" y="692280"/>
            <a:ext cx="1238400" cy="2143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trips dir="r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539640" y="549360"/>
            <a:ext cx="7993080" cy="482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Štěstím prozářené velikonoční svátky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8459280" y="6467400"/>
            <a:ext cx="53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ň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 rot="21427800">
            <a:off x="7020000" y="2852280"/>
            <a:ext cx="1904760" cy="1648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0" y="3645000"/>
            <a:ext cx="2324160" cy="2565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1692360" y="3933720"/>
            <a:ext cx="5400720" cy="26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33"/>
                </a:solidFill>
                <a:effectLst>
                  <a:outerShdw dist="17819" dir="2700000" blurRad="0" rotWithShape="0">
                    <a:srgbClr val="ff0066">
                      <a:alpha val="80000"/>
                    </a:srgbClr>
                  </a:outerShdw>
                </a:effectLst>
                <a:latin typeface="Times New Roman"/>
              </a:rPr>
              <a:t>Přišlo jaro, všechno kvete,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33"/>
              </a:solidFill>
              <a:effectLst>
                <a:outerShdw dist="17819" dir="2700000" blurRad="0" rotWithShape="0">
                  <a:srgbClr val="ff0066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33"/>
                </a:solidFill>
                <a:effectLst>
                  <a:outerShdw dist="17819" dir="2700000" blurRad="0" rotWithShape="0">
                    <a:srgbClr val="ff0066">
                      <a:alpha val="80000"/>
                    </a:srgbClr>
                  </a:outerShdw>
                </a:effectLst>
                <a:latin typeface="Times New Roman"/>
              </a:rPr>
              <a:t>zelená se zahrádka,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33"/>
              </a:solidFill>
              <a:effectLst>
                <a:outerShdw dist="17819" dir="2700000" blurRad="0" rotWithShape="0">
                  <a:srgbClr val="ff0066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33"/>
                </a:solidFill>
                <a:effectLst>
                  <a:outerShdw dist="17819" dir="2700000" blurRad="0" rotWithShape="0">
                    <a:srgbClr val="ff0066">
                      <a:alpha val="80000"/>
                    </a:srgbClr>
                  </a:outerShdw>
                </a:effectLst>
                <a:latin typeface="Times New Roman"/>
              </a:rPr>
              <a:t>moje přání krásných svátků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33"/>
              </a:solidFill>
              <a:effectLst>
                <a:outerShdw dist="17819" dir="2700000" blurRad="0" rotWithShape="0">
                  <a:srgbClr val="ff0066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33"/>
                </a:solidFill>
                <a:effectLst>
                  <a:outerShdw dist="17819" dir="2700000" blurRad="0" rotWithShape="0">
                    <a:srgbClr val="ff0066">
                      <a:alpha val="80000"/>
                    </a:srgbClr>
                  </a:outerShdw>
                </a:effectLst>
                <a:latin typeface="Times New Roman"/>
              </a:rPr>
              <a:t>přinášejí kuřátka..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33"/>
              </a:solidFill>
              <a:effectLst>
                <a:outerShdw dist="17819" dir="2700000" blurRad="0" rotWithShape="0">
                  <a:srgbClr val="ff0066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10000">
    <p:newsflash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16:06:10Z</dcterms:created>
  <dc:creator>Soňa</dc:creator>
  <dc:description/>
  <dc:language>en-US</dc:language>
  <cp:lastModifiedBy>Soňa</cp:lastModifiedBy>
  <dcterms:modified xsi:type="dcterms:W3CDTF">2012-02-12T16:29:12Z</dcterms:modified>
  <cp:revision>2</cp:revision>
  <dc:subject/>
  <dc:title>Snímek 1</dc:title>
</cp:coreProperties>
</file>