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6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housle.wav" ContentType="audio/x-wav"/>
  <Override PartName="/ppt/media/image8.png" ContentType="image/png"/>
  <Override PartName="/ppt/media/image11.png" ContentType="image/png"/>
  <Override PartName="/ppt/media/image25.jpeg" ContentType="image/jpeg"/>
  <Override PartName="/ppt/media/image24.gif" ContentType="image/gif"/>
  <Override PartName="/ppt/media/image26.png" ContentType="image/png"/>
  <Override PartName="/ppt/media/image23.gif" ContentType="image/gif"/>
  <Override PartName="/ppt/media/image20.jpeg" ContentType="image/jpeg"/>
  <Override PartName="/ppt/media/image18.png" ContentType="image/png"/>
  <Override PartName="/ppt/media/image14.gif" ContentType="image/gif"/>
  <Override PartName="/ppt/media/image13.png" ContentType="image/png"/>
  <Override PartName="/ppt/media/image21.gif" ContentType="image/gif"/>
  <Override PartName="/ppt/media/image19.gif" ContentType="image/gif"/>
  <Override PartName="/ppt/media/image17.gif" ContentType="image/gif"/>
  <Override PartName="/ppt/media/image22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140-0B31-444C-A495-96388502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47A-A4DE-4C87-9517-BEFD1764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E0F-5035-45E1-A9D5-070E087F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EB1-C2CE-4C12-A1F0-B05B87D4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05B-7BB1-4947-ADB5-FECAB961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874-6A72-4D66-BF6E-71C1DE2E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F2E-0373-426A-81DF-9D7279E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5E1-0729-4383-894A-52CCF1AE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094-08D0-418A-B76C-63EC7FD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17A-FEE6-4E47-AA5A-A72A39D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A78-525A-4195-BB2A-5739B32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3E8-F9F6-4E7A-9590-F84FD0B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A7C-3A96-4B40-A6ED-B84349D9A00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gif"/><Relationship Id="rId6" Type="http://schemas.openxmlformats.org/officeDocument/2006/relationships/audio" Target="../media/housl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3.gif"/><Relationship Id="rId23" Type="http://schemas.openxmlformats.org/officeDocument/2006/relationships/image" Target="../media/image24.gif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1316160" cy="202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1341360"/>
            <a:ext cx="5400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603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Krásný velikonoční ča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276720" y="177336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  <p:sndAc>
      <p:stSnd>
        <p:snd r:embed="rId6" name="housl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3286080" cy="3505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419640" y="333360"/>
            <a:ext cx="5010120" cy="36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kaDora"/>
              </a:rPr>
              <a:t>Tak tu máme zas</a:t>
            </a:r>
            <a:endParaRPr b="0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kaDora"/>
              </a:rPr>
              <a:t>Velikonoční čas.</a:t>
            </a:r>
            <a:endParaRPr b="0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kaDora"/>
              </a:rPr>
              <a:t>Upečeme beránka, </a:t>
            </a:r>
            <a:endParaRPr b="0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kaDora"/>
              </a:rPr>
              <a:t>na stůl dáme vajíčka.</a:t>
            </a:r>
            <a:endParaRPr b="0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kaDora"/>
              </a:rPr>
              <a:t>Přejeme Vám klidné svátky,</a:t>
            </a:r>
            <a:endParaRPr b="0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kaDora"/>
              </a:rPr>
              <a:t>ať nemáte žádné hádky...</a:t>
            </a:r>
            <a:endParaRPr b="0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kaDora"/>
              <a:ea typeface="akaDor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 rot="21052200">
            <a:off x="3078000" y="4895640"/>
            <a:ext cx="2305080" cy="1382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 rot="20228400">
            <a:off x="5353200" y="3981240"/>
            <a:ext cx="3790800" cy="2876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420048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60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rot="20707800">
            <a:off x="-180720" y="4392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372360" y="260280"/>
            <a:ext cx="2771640" cy="2451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35280" y="1341360"/>
            <a:ext cx="5184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kaDora"/>
              </a:rPr>
              <a:t>Přišlo jaro, všechno kvete,</a:t>
            </a:r>
            <a:endParaRPr b="1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kaDora"/>
              </a:rPr>
              <a:t>zelená se zahrádka,</a:t>
            </a:r>
            <a:endParaRPr b="1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kaDora"/>
              </a:rPr>
              <a:t>moje přání krásných svátků</a:t>
            </a:r>
            <a:endParaRPr b="1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kaDora"/>
              </a:rPr>
              <a:t>přinášejí kuřátka...</a:t>
            </a:r>
            <a:endParaRPr b="1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kaDora"/>
              <a:ea typeface="akaDora"/>
            </a:endParaRPr>
          </a:p>
        </p:txBody>
      </p:sp>
    </p:spTree>
  </p:cSld>
  <p:transition spd="slow" advTm="10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76508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187280" y="3645000"/>
            <a:ext cx="691200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zké Velikonoce</a:t>
            </a:r>
            <a:endParaRPr b="0" lang="en-US" sz="1800" spc="1" strike="noStrike">
              <a:ln w="2232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né pohody a sluníčka....</a:t>
            </a:r>
            <a:endParaRPr b="0" lang="en-US" sz="1800" spc="1" strike="noStrike">
              <a:ln w="22320">
                <a:solidFill>
                  <a:srgbClr val="ffff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95280" y="4005360"/>
            <a:ext cx="1728720" cy="1369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9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6467400"/>
            <a:ext cx="4572000" cy="39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572000" y="6467400"/>
            <a:ext cx="4572000" cy="390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627280" y="1413000"/>
            <a:ext cx="56167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0066"/>
                  </a:outerShdw>
                </a:effectLst>
                <a:latin typeface="akaDora"/>
              </a:rPr>
              <a:t>Hody, hody, doprovody,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0066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0066"/>
                  </a:outerShdw>
                </a:effectLst>
                <a:latin typeface="akaDora"/>
              </a:rPr>
              <a:t>jaro už je vskutku tady.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0066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0066"/>
                  </a:outerShdw>
                </a:effectLst>
                <a:latin typeface="akaDora"/>
              </a:rPr>
              <a:t>Se sluníčkem najdem sílu,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0066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0066"/>
                  </a:outerShdw>
                </a:effectLst>
                <a:latin typeface="akaDora"/>
              </a:rPr>
              <a:t>do žil vlijem novou mízu.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0066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0066"/>
                  </a:outerShdw>
                </a:effectLst>
                <a:latin typeface="akaDora"/>
              </a:rPr>
              <a:t>Pomlázka a kraslice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0066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0066"/>
                  </a:outerShdw>
                </a:effectLst>
                <a:latin typeface="akaDora"/>
              </a:rPr>
              <a:t>k svátkům patří nejvíce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0066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0066"/>
                  </a:outerShdw>
                </a:effectLst>
                <a:latin typeface="akaDora"/>
              </a:rPr>
              <a:t>a tak  přejem ze srdce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0066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0066"/>
                  </a:outerShdw>
                </a:effectLst>
                <a:latin typeface="akaDora"/>
              </a:rPr>
              <a:t>krásné Velikonoce...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0066"/>
                </a:outerShdw>
              </a:effectLst>
              <a:latin typeface="akaDora"/>
              <a:ea typeface="akaDor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 rot="19954800">
            <a:off x="0" y="134100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324000" y="3213000"/>
            <a:ext cx="280980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in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00000" y="1052640"/>
            <a:ext cx="7489800" cy="27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ill Sans MT"/>
              </a:rPr>
              <a:t>Štěstím prozářené velikonoční svátky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ill Sans MT"/>
              <a:ea typeface="Gill Sans MT"/>
            </a:endParaRPr>
          </a:p>
        </p:txBody>
      </p:sp>
      <p:sp>
        <p:nvSpPr>
          <p:cNvPr id="65" name=""/>
          <p:cNvSpPr/>
          <p:nvPr/>
        </p:nvSpPr>
        <p:spPr>
          <a:xfrm>
            <a:off x="8316720" y="638172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ň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7:41:25Z</dcterms:created>
  <dc:creator>Soňa</dc:creator>
  <dc:description/>
  <dc:language>en-US</dc:language>
  <cp:lastModifiedBy>Soňa</cp:lastModifiedBy>
  <dcterms:modified xsi:type="dcterms:W3CDTF">2012-03-09T17:45:09Z</dcterms:modified>
  <cp:revision>1</cp:revision>
  <dc:subject/>
  <dc:title>Snímek 1</dc:title>
</cp:coreProperties>
</file>